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B39-AD06-4A84-850F-BC35B049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280-177F-4EE9-93B0-7E387D57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4C3-2547-4061-96AC-FBCB4476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0B6-6F01-4D04-92C8-A9F7895D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7140-0C86-4381-8BB7-017A9468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38D3-F570-4439-A954-2A241C00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C229-E614-4A9C-B4B2-23C1D2F6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712-A606-4E12-A4CA-9B19E414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010D-16CF-4A42-8488-F59C6290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79BC-0E0E-45F7-BFA1-AC98CCFB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EE94-8C6E-479D-9A6F-3989157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A64-727A-495C-8F07-1A2CE84A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2669-4DC1-40D3-BCBF-F1C39FCF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DD9B-C064-4C73-8488-5B37F142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3DD9-5AD8-427B-B6D6-EB66F609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FC59-5A23-4DCC-80D8-035F5AF5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73C2-B7E1-4419-A641-5FD6F29B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F94-353D-4E3A-8DF9-C13DB784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724-2CDA-4107-8DFE-78E899E0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BFD-E0D6-4691-8699-F90724B9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F12-E03F-4EBC-A593-A01F8572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751-F559-4995-9ACB-1D0A68D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588-F8D9-4DFF-8B31-E983304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340-895E-46A5-B160-F35A147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E91E-2CD7-4D9B-AC8C-E087BC0308B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8485-5B32-4D93-B180-FB43D0752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19CB-8CAD-42E4-86BA-1F5FEAB65E5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CDCD-B62D-4C28-AB0D-5897BBF6F1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3363-2E16-411C-9A9C-896B4D6F52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24000" y="121644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Разъясн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о согласованию програм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рофессиональной переподготов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 области информационной безопас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Подзаголовок 2"/>
          <p:cNvSpPr/>
          <p:nvPr/>
        </p:nvSpPr>
        <p:spPr>
          <a:xfrm>
            <a:off x="623880" y="4334040"/>
            <a:ext cx="785484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меститель Председателя Совета УМ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 образованию в обла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нформацион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елов Евгений Борисови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27 марта 2015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EF4E-CFD7-4B4B-9EE0-B539743F99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0" y="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горитм согласования программ профессиональной переподготовки в области информацион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39"/>
          <p:cNvSpPr/>
          <p:nvPr/>
        </p:nvSpPr>
        <p:spPr>
          <a:xfrm>
            <a:off x="108000" y="981000"/>
            <a:ext cx="3672000" cy="1152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бразовательная организация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зработавшая программу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фессионально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ереподготовк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39"/>
          <p:cNvSpPr/>
          <p:nvPr/>
        </p:nvSpPr>
        <p:spPr>
          <a:xfrm>
            <a:off x="5219640" y="981000"/>
            <a:ext cx="3313080" cy="1152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кадемия ФСБ Росси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МО по образова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области И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39"/>
          <p:cNvSpPr/>
          <p:nvPr/>
        </p:nvSpPr>
        <p:spPr>
          <a:xfrm>
            <a:off x="3203640" y="2421000"/>
            <a:ext cx="266364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рок – 2 меся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3780000" y="1557360"/>
            <a:ext cx="1439640" cy="0"/>
          </a:xfrm>
          <a:prstGeom prst="line">
            <a:avLst/>
          </a:prstGeom>
          <a:ln w="41400">
            <a:solidFill>
              <a:srgbClr val="ffff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 flipV="1">
            <a:off x="4500720" y="2133720"/>
            <a:ext cx="2232000" cy="287280"/>
          </a:xfrm>
          <a:prstGeom prst="line">
            <a:avLst/>
          </a:prstGeom>
          <a:ln w="41400">
            <a:solidFill>
              <a:srgbClr val="ffff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139"/>
          <p:cNvSpPr/>
          <p:nvPr/>
        </p:nvSpPr>
        <p:spPr>
          <a:xfrm>
            <a:off x="36360" y="3645000"/>
            <a:ext cx="266400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СБ Росс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39"/>
          <p:cNvSpPr/>
          <p:nvPr/>
        </p:nvSpPr>
        <p:spPr>
          <a:xfrm>
            <a:off x="2843280" y="3645000"/>
            <a:ext cx="3457440" cy="12967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- Соответствие программы требованиям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нормативных правовых акт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и требованиям регулятор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в области ИБ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гласование (доработк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39"/>
          <p:cNvSpPr/>
          <p:nvPr/>
        </p:nvSpPr>
        <p:spPr>
          <a:xfrm>
            <a:off x="36360" y="4076640"/>
            <a:ext cx="2664000" cy="43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Цент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39"/>
          <p:cNvSpPr/>
          <p:nvPr/>
        </p:nvSpPr>
        <p:spPr>
          <a:xfrm>
            <a:off x="34920" y="4508640"/>
            <a:ext cx="266400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ЛС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6445080" y="3645000"/>
            <a:ext cx="266400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СТЭК Росс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139"/>
          <p:cNvSpPr/>
          <p:nvPr/>
        </p:nvSpPr>
        <p:spPr>
          <a:xfrm>
            <a:off x="6445080" y="4076640"/>
            <a:ext cx="2664000" cy="43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правления по Ф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139"/>
          <p:cNvSpPr/>
          <p:nvPr/>
        </p:nvSpPr>
        <p:spPr>
          <a:xfrm>
            <a:off x="6443640" y="4508640"/>
            <a:ext cx="266400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Управление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Центрального аппарата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28"/>
          <p:cNvSpPr/>
          <p:nvPr/>
        </p:nvSpPr>
        <p:spPr>
          <a:xfrm flipH="1" flipV="1">
            <a:off x="4427280" y="3213000"/>
            <a:ext cx="3313080" cy="432000"/>
          </a:xfrm>
          <a:prstGeom prst="line">
            <a:avLst/>
          </a:prstGeom>
          <a:ln w="41400">
            <a:solidFill>
              <a:srgbClr val="ffff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29"/>
          <p:cNvSpPr/>
          <p:nvPr/>
        </p:nvSpPr>
        <p:spPr>
          <a:xfrm flipV="1">
            <a:off x="1187280" y="3212640"/>
            <a:ext cx="3313440" cy="430200"/>
          </a:xfrm>
          <a:prstGeom prst="line">
            <a:avLst/>
          </a:prstGeom>
          <a:ln w="41400">
            <a:solidFill>
              <a:srgbClr val="ffff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39"/>
          <p:cNvSpPr/>
          <p:nvPr/>
        </p:nvSpPr>
        <p:spPr>
          <a:xfrm>
            <a:off x="108000" y="5445000"/>
            <a:ext cx="3672000" cy="1152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МО ИБ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егистрация в УМО ИБ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информация на сайте УМ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39"/>
          <p:cNvSpPr/>
          <p:nvPr/>
        </p:nvSpPr>
        <p:spPr>
          <a:xfrm>
            <a:off x="5219640" y="5445000"/>
            <a:ext cx="3313080" cy="1152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овательная организаци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авшая программ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еподготов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3780000" y="6021360"/>
            <a:ext cx="1439640" cy="0"/>
          </a:xfrm>
          <a:prstGeom prst="line">
            <a:avLst/>
          </a:prstGeom>
          <a:ln w="41400">
            <a:solidFill>
              <a:srgbClr val="ffff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2050920" y="4941720"/>
            <a:ext cx="5761080" cy="503280"/>
          </a:xfrm>
          <a:prstGeom prst="line">
            <a:avLst/>
          </a:prstGeom>
          <a:ln w="41400">
            <a:solidFill>
              <a:srgbClr val="ffff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 flipH="1" flipV="1">
            <a:off x="1186920" y="4941720"/>
            <a:ext cx="863640" cy="503280"/>
          </a:xfrm>
          <a:prstGeom prst="line">
            <a:avLst/>
          </a:prstGeom>
          <a:ln w="41400">
            <a:solidFill>
              <a:srgbClr val="ffff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214200" y="115920"/>
            <a:ext cx="8715600" cy="59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редметом экспертизы дополнительной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рофессиональной программы является соответствие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требованиям федеральных законов, нормативных правовых актов и организационно-распорядительных документов Минобрнауки России по осуществлению образовательной дея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нормативным правовым актам, регулирующим деятельность в области информационной безопас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ПС, КТ, указанным в квалификационных справочниках по соответствующим должностям, профессиям и специальностям,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ли КТ к профессиональным знаниям и навыкам, необходимым для исполнения должностных обязанностей, которые устанавливаются в соответствии с федеральными законами и иными нормативными правовыми актами Российской Федерации о государственной службе, и требованиям соответствующих ФГОС ВО и СПО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214200" y="115920"/>
            <a:ext cx="87156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редметом экспертизы дополнительной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рофессиональной программы является соответствие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имерным дополнительным профессиональным программам или типовым ДПП в области ИБ, согласованным с ФСБ России и (или) ФСТЭК России (при наличии этих программ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ланируемым результатам освоения дополнительной профессиональной программы (анализ результатов и содержания программы, фондов оценочных средств, технологий обучения, кадровых, материально-технических и учебно-методических условий реализации программы, возможности достижения результатов обучения за отведенные сроки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овременному состоянию и развитию отрасли «Информационная безопасность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14200" y="115920"/>
            <a:ext cx="8715600" cy="61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Для согласования дополнительной профессиональной программы образовательная организация направляет в адрес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Академии ФСБ России следующие документы и материалы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1. Сопроводительное письмо, в котором указываются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квизиты образовательной организации с обязательным указанием адреса электронной почт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вание дополнительной профессиональной програм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аткая информация о дополнительной профессиональной программе, в том числ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аказчик программы (при наличии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кем разработана программ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а основании каких профессиональных стандартов, образовательных стандартов и квалификационных требований разработана програм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аличие (отсутствие) в программе сведений, составляющих государственную тайн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14200" y="115920"/>
            <a:ext cx="871560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Для согласования дополнительной профессиональной программы образовательная организация направляет в адрес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Академии ФСБ России следующие документы и материалы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2. ДПП в печатном виде (в двух экземплярах) и на электронном носител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3. Квалификационные требования к профессиональным знаниям и навыкам, необходимым для исполнения должностных обязанносте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4. Копию документа о подтверждении заказа на подготовку по дополнительной профессиональной программе (при наличии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5. Экспертное заключение о возможности опубликования дополнительной профессиональной программы в открытой печат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214200" y="115920"/>
            <a:ext cx="8715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Образовательная организация вправе направить и иные материалы о дополнительной профессиональной программ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спертное заключение Учебно-методического объединения по образованию в области информационной безопасности о возможности и рекомендации к использованию в образовательном процесс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цензии ведущих специалистов (организаций), подтверждающие качество представленной програм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ериалы общественной аккредитации образовательной организации, профессионально-общественной аккредитации образовательных программ (при их наличии)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DC6D-A993-46D0-A4F6-522DF9E922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4186-34E0-4367-AE59-E5DAE7AAAA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73080" y="2549520"/>
            <a:ext cx="90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пасибо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за внимани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5:28:34Z</dcterms:created>
  <dc:creator>12</dc:creator>
  <dc:description/>
  <dc:language>en-US</dc:language>
  <cp:lastModifiedBy>УМО ИБ</cp:lastModifiedBy>
  <cp:lastPrinted>2015-03-26T13:39:16Z</cp:lastPrinted>
  <dcterms:modified xsi:type="dcterms:W3CDTF">2015-03-27T07:50:45Z</dcterms:modified>
  <cp:revision>407</cp:revision>
  <dc:subject/>
  <dc:title>Подразделения Академи, реализующие организационно-оооооо функции (ОИФ) по основным направлениям деятельности Академии (решение ректората Академии 30.09.2002)</dc:title>
</cp:coreProperties>
</file>