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18.wmf" ContentType="image/x-wmf"/>
  <Override PartName="/ppt/media/image4.jpeg" ContentType="image/jpeg"/>
  <Override PartName="/ppt/media/image25.jpeg" ContentType="image/jpeg"/>
  <Override PartName="/ppt/media/image3.png" ContentType="image/png"/>
  <Override PartName="/ppt/media/image26.png" ContentType="image/png"/>
  <Override PartName="/ppt/media/image2.jpeg" ContentType="image/jpeg"/>
  <Override PartName="/ppt/media/image28.png" ContentType="image/png"/>
  <Override PartName="/ppt/media/image1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0.png" ContentType="image/png"/>
  <Override PartName="/ppt/media/image27.jpeg" ContentType="image/jpe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0AFF2-2ED7-439E-A5AE-A60B0E9089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B57C6-45D1-4B0B-BB5C-F445509509F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869BC-AEF9-4741-AD84-2BA86DCBB39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1ED3-FF8C-488A-BE03-AF4234125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8717-A3E7-478A-B4B4-7D263EBFD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474D-6DD5-4334-BE6C-622541937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5D9D-3F12-43C4-98AC-281266897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181FB-3BBE-473D-AFF7-3E22C3D5C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372FC-0843-4586-8B6F-20FAF300B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EEC4A-47F0-4744-99C5-03EA15FDB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2C11B-CE9B-493A-A46C-AD11CF7F1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FABF1-21A3-4657-8783-C3A29630F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ADC78-5A7F-4187-8DC4-7374C680F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C523D-F8F9-454C-B997-5C583433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6F36-26C9-46A0-92DA-C0294D536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93DF4-F649-4D1E-9309-FB41B841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448D9-71BF-4F98-B689-8BA1152C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0D711-55D2-4D05-8EA9-361981705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5662B-B645-487D-9F6E-7DD57B17C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90656-CB4B-4976-8211-98F82B543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4AA1F-5ADE-4005-B530-1DE44E767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9C966-2879-4488-AB75-8D2B7DC00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23207-A7EB-40E9-A1CD-258747AE3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B021F-5FF9-4F3E-89CC-1CD219CE0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D2FB3-D332-4D96-977E-622F640E9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BAAC-13C1-4293-BEDB-A8A8E236D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B96FF-A2AD-4268-BE5D-7BB576D2E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C7313-E923-46F4-A87B-EE4D2CB9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EB5D5-1299-4D8A-8C23-576B8C71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C3138-0858-4776-8C09-42707E43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5384F-7CA2-4676-AB7C-D17EB0261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C3F5B-C025-41D3-9C6B-56A4F7EE7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C178A-3F87-4D2F-ABBD-8886B033D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80ED1-BA2B-43AD-9300-B1B346623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FCA76-E020-486F-9123-DCC5D35ED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E7EED-0253-4C61-A9BC-37811608F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1F88-8159-4988-85A0-DE6571C0A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04EFC-0AEA-4F34-9764-2A2B9AB74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70C7F-B62F-4C9A-B07D-A2A6E0CE8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58BAE-190B-4612-95B3-1CBB5F0A4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0E7A7-4B83-45D3-A067-7AF3A6B5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A5FE9-1F43-46ED-863D-DE17B59E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7B139-DCC7-4B5A-950B-02F6FC3A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0F4AC-5360-4051-B58C-1A44E6583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712A5-E407-4DD6-8916-F9A4D94E2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82771-D0EB-4DB2-982B-FCB9B8F6E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A3A7-AEDD-4946-B376-E0BCA3B98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E742-F7B9-4619-A13A-1A2FE3B12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316B-A6DD-46C2-BB2A-B84C462F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2544-F107-46BD-81EF-9D753389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B02D-7937-40BB-B097-11A01328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1AACE-5443-4B5F-8E83-6A857AA011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7AA29-2239-4305-ABD1-F36144886B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B668-A100-473D-978F-E983E2176E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240B8-F6FF-40D9-9FB2-6E15A4BBB3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image" Target="../media/image20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mailto:mvv@aciso.ru" TargetMode="External"/><Relationship Id="rId3" Type="http://schemas.openxmlformats.org/officeDocument/2006/relationships/hyperlink" Target="mailto:mvv@aciso.ru" TargetMode="External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Пленум РО УМО ИБ по ЦФО</a:t>
            </a:r>
            <a:br>
              <a:rPr sz="54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258920" y="6092640"/>
            <a:ext cx="6400800" cy="45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Calibri"/>
              </a:rPr>
              <a:t>г. Москва, МИРЭА, 27.03.2015 год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Прямоугольник 1"/>
          <p:cNvSpPr/>
          <p:nvPr/>
        </p:nvSpPr>
        <p:spPr>
          <a:xfrm>
            <a:off x="324000" y="479736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«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Об игровых формах в системе подготовки 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специалистов по информационной безопасности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1-27 апреля 2015 года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Екатеринбурге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nal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RuCTF 2015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1413000"/>
            <a:ext cx="84960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X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сероссийские межвузовские соревнован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 защите информаци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рганизатором соревнований ежегодно выступае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ральский федеральный университет 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УНЦ "Интеллектуальные системы и информационная безопасность"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ститута математики и компьютерных наук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организаторы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ссоциация руководителей служб информационной безопасност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юз ИТ директоров Росси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 полуфинале   20  декабря 2014 года  322 команд из 50 стран мир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Picture 3" descr=""/>
          <p:cNvPicPr/>
          <p:nvPr/>
        </p:nvPicPr>
        <p:blipFill>
          <a:blip r:embed="rId1"/>
          <a:stretch/>
        </p:blipFill>
        <p:spPr>
          <a:xfrm>
            <a:off x="4572000" y="115920"/>
            <a:ext cx="4103640" cy="12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362800" cy="56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2011 год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Региональные открытые межвузовские соревнования 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в области информационной безопасности VolgaCTF 2011 </a:t>
            </a:r>
            <a:br>
              <a:rPr sz="1700"/>
            </a:b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2012 год 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Региональные открытые межвузовские соревнования 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в области информационной безопасности VolgaCTF 2012 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в Поволжском федеральном округе. </a:t>
            </a:r>
            <a:br>
              <a:rPr sz="1700"/>
            </a:b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2013 год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Открытые Региональные открытые межвузовские соревнования в области информационной безопасности VolgaCTF 2013 в Поволжском федеральном округе. </a:t>
            </a:r>
            <a:br>
              <a:rPr sz="1700"/>
            </a:b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2014 год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Открытые Региональные открытые межвузовские соревнования в области информационной безопасности VolgaCTF 2014 в Поволжском федеральном округе с участием международных команд.</a:t>
            </a:r>
            <a:br>
              <a:rPr sz="1700"/>
            </a:b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2015 год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Открытые Международные  (СНГ)  открытые межвузовские соревнования в области информационной безопасности VolgaCTF 2015 в Поволжском федеральном округ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од эгидой Губернатора и Правительства Самарской области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2" descr="Volga-CTF"/>
          <p:cNvPicPr/>
          <p:nvPr/>
        </p:nvPicPr>
        <p:blipFill>
          <a:blip r:embed="rId1"/>
          <a:stretch/>
        </p:blipFill>
        <p:spPr>
          <a:xfrm>
            <a:off x="0" y="692280"/>
            <a:ext cx="2305080" cy="127620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5"/>
          <p:cNvSpPr/>
          <p:nvPr/>
        </p:nvSpPr>
        <p:spPr>
          <a:xfrm>
            <a:off x="4459680" y="7488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оревнования в области администрирования по версии VSFI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Межрегиональный кубок VSFI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жрегиональные межвузовские открытые соревнован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области системного администрирования и информационной безопас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Прямоугольник 3"/>
          <p:cNvSpPr/>
          <p:nvPr/>
        </p:nvSpPr>
        <p:spPr>
          <a:xfrm>
            <a:off x="971640" y="4437000"/>
            <a:ext cx="72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амарский государственный аэрокосмичекий университет имени академика С.П. Королё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6"/>
          <p:cNvSpPr/>
          <p:nvPr/>
        </p:nvSpPr>
        <p:spPr>
          <a:xfrm>
            <a:off x="684360" y="5589720"/>
            <a:ext cx="792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од эгидой Губернатора и Правительства Самарской област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8856720" cy="48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первые Российская  команда  приняла участие в  финале международных соревнованиях  по информационной безопасности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FCON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19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TF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прошедших  в  августе 2011 года в Лас-Вегасе (штат Невада США)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 итогам  наша команда заняла 4 место из 12 команд вошедших в финал.  За выход в финал  бились 650 команд со всего мира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 19 лет это первая российская команда, которая смогла пробиться в финальную часть CTF-соревнований конференции DEFCON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2012 году в финал вошли три наши студенческие команды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13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2014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пятерке лучших …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2015  в финал впервые вышла команда МГУ</a:t>
            </a:r>
            <a:br>
              <a:rPr sz="2000"/>
            </a:br>
            <a:br>
              <a:rPr sz="20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468360" y="180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Итоги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6" descr="DEFCON Logo"/>
          <p:cNvPicPr/>
          <p:nvPr/>
        </p:nvPicPr>
        <p:blipFill>
          <a:blip r:embed="rId1"/>
          <a:stretch/>
        </p:blipFill>
        <p:spPr>
          <a:xfrm>
            <a:off x="324000" y="5877000"/>
            <a:ext cx="3887640" cy="795240"/>
          </a:xfrm>
          <a:prstGeom prst="rect">
            <a:avLst/>
          </a:prstGeom>
          <a:ln w="0">
            <a:noFill/>
          </a:ln>
        </p:spPr>
      </p:pic>
      <p:sp>
        <p:nvSpPr>
          <p:cNvPr id="239" name="Прямоугольник 8"/>
          <p:cNvSpPr/>
          <p:nvPr/>
        </p:nvSpPr>
        <p:spPr>
          <a:xfrm>
            <a:off x="3276720" y="115920"/>
            <a:ext cx="559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ория подкрепленная практи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зработчики соревнований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навыки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24640">
              <a:spcBef>
                <a:spcPts val="601"/>
              </a:spcBef>
              <a:buClr>
                <a:srgbClr val="9bbb59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бота в команде, совместное владение код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1120" indent="-224640">
              <a:spcBef>
                <a:spcPts val="601"/>
              </a:spcBef>
              <a:buClr>
                <a:srgbClr val="9bbb59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мение реализовывать согласованны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1120" indent="-224640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 другими разработчиками интерфейс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1120" indent="-224640">
              <a:spcBef>
                <a:spcPts val="601"/>
              </a:spcBef>
              <a:buClr>
                <a:srgbClr val="9bbb59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мение интегрировать результаты рабо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1120" indent="-224640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скольких разработчик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1120" indent="-224640">
              <a:spcBef>
                <a:spcPts val="601"/>
              </a:spcBef>
              <a:buClr>
                <a:srgbClr val="9bbb59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ланирование разработки с жесткими срок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1120" indent="-224640">
              <a:spcBef>
                <a:spcPts val="601"/>
              </a:spcBef>
              <a:buClr>
                <a:srgbClr val="9bbb59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ыт доведения разработки до конечного проду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1120" indent="-224640">
              <a:spcBef>
                <a:spcPts val="601"/>
              </a:spcBef>
              <a:buClr>
                <a:srgbClr val="9bbb59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бота с трекером зада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1120" indent="-224640">
              <a:spcBef>
                <a:spcPts val="601"/>
              </a:spcBef>
              <a:buClr>
                <a:srgbClr val="9bbb59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бота с системой контроля верс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1120" indent="-224640">
              <a:spcBef>
                <a:spcPts val="601"/>
              </a:spcBef>
              <a:buClr>
                <a:srgbClr val="9bbb59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пользование различных техник разработки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1120" indent="-224640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Agile, экстремальное программирование, 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1120" indent="-224640">
              <a:spcBef>
                <a:spcPts val="601"/>
              </a:spcBef>
              <a:buClr>
                <a:srgbClr val="9bbb59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кументирование разработ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1120" indent="-224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TF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вижение в Росс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UralCTF (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Екатеринбург, Челябинск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uCTF, RuCTFE (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Екатеринбург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UFOCTF (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Таганрог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усКрипто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TF (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осква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eetMore CTF, Rf CTF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lympicCTF (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анкт-Петербург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ibCTF, SibirCTF (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Томск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TF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oscow CTF School (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осква)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VolgaCTF (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амара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BaltCTF (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Калининград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KrasCTF (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Красноярск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mCTF (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мск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 этом году впервые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ltCTF (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Барнаул), Новосибирск, Махачкала, Пенз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фициальная поддерж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инобрнауки Росси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–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инистерства связи и массовых коммуникаций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–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инистерства обороны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–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едеральной службы по экспортному и техническому контролю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–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еждународной академии связи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–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оссийской ассоциации развития информационного общества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–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ПИ РАН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гласован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8 Центр ФСБ Росси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ИБ ФСБ России,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ебно-методического объединения вузов России по образованию в области информационной безопас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ланы по развити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23640" y="1483920"/>
            <a:ext cx="8569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ральский федеральный округ  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ralCT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волжский федеральный округ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VolgaCT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бирский и Дальневосточный федеральный округ 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birCT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ентральный федеральный округ -  20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веро-западный федеральный округ – 20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Южный федеральный округ  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сква 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*CT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Летняя 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TF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школа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10-16.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08.2015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539640" y="105228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ргкомитет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uCT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ргкомитет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olgaCT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О АРСИ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АО «ОЭЗ ТВТ «Дубн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дминистрация г. Дуб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 УМО ИБ по ЦФ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4356000" y="1413000"/>
            <a:ext cx="1833840" cy="5760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"/>
          <p:cNvPicPr/>
          <p:nvPr/>
        </p:nvPicPr>
        <p:blipFill>
          <a:blip r:embed="rId2"/>
          <a:stretch/>
        </p:blipFill>
        <p:spPr>
          <a:xfrm>
            <a:off x="6875640" y="2492280"/>
            <a:ext cx="1233360" cy="1008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http://www.aciso.ru/en/i/logo_eng.png"/>
          <p:cNvPicPr/>
          <p:nvPr/>
        </p:nvPicPr>
        <p:blipFill>
          <a:blip r:embed="rId3"/>
          <a:stretch/>
        </p:blipFill>
        <p:spPr>
          <a:xfrm>
            <a:off x="4643280" y="2421000"/>
            <a:ext cx="1459080" cy="7617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" descr="C:\Users\Пользователь\Desktop\unnamed (1).jpg"/>
          <p:cNvPicPr/>
          <p:nvPr/>
        </p:nvPicPr>
        <p:blipFill>
          <a:blip r:embed="rId4"/>
          <a:stretch/>
        </p:blipFill>
        <p:spPr>
          <a:xfrm>
            <a:off x="5435640" y="4653000"/>
            <a:ext cx="3284640" cy="20844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" descr="Volga-CTF"/>
          <p:cNvPicPr/>
          <p:nvPr/>
        </p:nvPicPr>
        <p:blipFill>
          <a:blip r:embed="rId5"/>
          <a:stretch/>
        </p:blipFill>
        <p:spPr>
          <a:xfrm>
            <a:off x="7020000" y="1197000"/>
            <a:ext cx="1430280" cy="7920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"/>
          <p:cNvPicPr/>
          <p:nvPr/>
        </p:nvPicPr>
        <p:blipFill>
          <a:blip r:embed="rId6"/>
          <a:stretch/>
        </p:blipFill>
        <p:spPr>
          <a:xfrm>
            <a:off x="179280" y="5102280"/>
            <a:ext cx="3384720" cy="15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16000" y="1341360"/>
            <a:ext cx="6624720" cy="8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СПАСИБО ЗА ВНИМ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Содержимое 20"/>
          <p:cNvSpPr/>
          <p:nvPr/>
        </p:nvSpPr>
        <p:spPr>
          <a:xfrm>
            <a:off x="108000" y="2060640"/>
            <a:ext cx="900108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ин Вик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дседатель Правлени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ссоциации руководителей служб информационной безопас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меститель председател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ргкомитет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CTF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lgaCTF, SibirCTF, KrasCTF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T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Тел.: +7 (495) 721 6003 </a:t>
            </a:r>
            <a:r>
              <a:rPr b="1" lang="en-US" sz="2200" spc="-1" strike="noStrike">
                <a:solidFill>
                  <a:srgbClr val="002060"/>
                </a:solidFill>
                <a:latin typeface="Calibri"/>
              </a:rPr>
              <a:t>E-mail: 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mvv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@aciso.ru</a:t>
            </a: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,  </a:t>
            </a:r>
            <a:r>
              <a:rPr b="1" lang="en-US" sz="2200" spc="-1" strike="noStrike">
                <a:solidFill>
                  <a:srgbClr val="002060"/>
                </a:solidFill>
                <a:latin typeface="Calibri"/>
              </a:rPr>
              <a:t>www.aciso.r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4"/>
          <a:stretch/>
        </p:blipFill>
        <p:spPr>
          <a:xfrm>
            <a:off x="539640" y="260280"/>
            <a:ext cx="1152720" cy="13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439092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дминистрато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работчи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рхитекто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граммис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удитор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te/black bo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Криптоаналити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ирусный аналити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Заголовок 1"/>
          <p:cNvSpPr/>
          <p:nvPr/>
        </p:nvSpPr>
        <p:spPr>
          <a:xfrm>
            <a:off x="250920" y="115920"/>
            <a:ext cx="871380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324000" y="404640"/>
            <a:ext cx="849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Специалист по информационной безопасности - кто он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Текст 5"/>
          <p:cNvSpPr/>
          <p:nvPr/>
        </p:nvSpPr>
        <p:spPr>
          <a:xfrm>
            <a:off x="5867280" y="2060640"/>
            <a:ext cx="280836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hief  Information Security Offic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hief  Security  Offic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mpliance Offic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formation Security Analy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formation Security Offic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T Security Administ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T Security Analy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T Security Offic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T Security Consult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T Security 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etwork Sistems Engine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etwork Sistems Security 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etwork Sistems Administ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stems Engine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stems Administrator – Ser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stems Administrator  -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ниверсит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2781000"/>
            <a:ext cx="8229600" cy="37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щеобразовательные курс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тематические предме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мпьютерные курс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дметы по специаль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2" descr="Уральский федеральный университет имени первого Президента России Б.Н.Ельцина"/>
          <p:cNvPicPr/>
          <p:nvPr/>
        </p:nvPicPr>
        <p:blipFill>
          <a:blip r:embed="rId1"/>
          <a:stretch/>
        </p:blipFill>
        <p:spPr>
          <a:xfrm>
            <a:off x="1979640" y="1197000"/>
            <a:ext cx="5324400" cy="1152360"/>
          </a:xfrm>
          <a:prstGeom prst="rect">
            <a:avLst/>
          </a:prstGeom>
          <a:ln w="0">
            <a:noFill/>
          </a:ln>
        </p:spPr>
      </p:pic>
      <p:sp>
        <p:nvSpPr>
          <p:cNvPr id="183" name="Заголовок 1"/>
          <p:cNvSpPr/>
          <p:nvPr/>
        </p:nvSpPr>
        <p:spPr>
          <a:xfrm>
            <a:off x="590400" y="55897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Calibri"/>
              </a:rPr>
              <a:t>Нельзя объять необъятно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Box 3"/>
          <p:cNvSpPr/>
          <p:nvPr/>
        </p:nvSpPr>
        <p:spPr>
          <a:xfrm>
            <a:off x="1116000" y="1628640"/>
            <a:ext cx="244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QL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4"/>
          <p:cNvSpPr/>
          <p:nvPr/>
        </p:nvSpPr>
        <p:spPr>
          <a:xfrm>
            <a:off x="4643280" y="177336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HP Inclu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5"/>
          <p:cNvSpPr/>
          <p:nvPr/>
        </p:nvSpPr>
        <p:spPr>
          <a:xfrm>
            <a:off x="2843280" y="2421000"/>
            <a:ext cx="273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uffer Over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6"/>
          <p:cNvSpPr/>
          <p:nvPr/>
        </p:nvSpPr>
        <p:spPr>
          <a:xfrm>
            <a:off x="5940360" y="2781360"/>
            <a:ext cx="16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DS,  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7"/>
          <p:cNvSpPr/>
          <p:nvPr/>
        </p:nvSpPr>
        <p:spPr>
          <a:xfrm>
            <a:off x="971640" y="450864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oneyP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8"/>
          <p:cNvSpPr/>
          <p:nvPr/>
        </p:nvSpPr>
        <p:spPr>
          <a:xfrm>
            <a:off x="3564000" y="3357720"/>
            <a:ext cx="36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everse Engine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0"/>
          <p:cNvSpPr/>
          <p:nvPr/>
        </p:nvSpPr>
        <p:spPr>
          <a:xfrm>
            <a:off x="1268280" y="2546280"/>
            <a:ext cx="164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N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1"/>
          <p:cNvSpPr/>
          <p:nvPr/>
        </p:nvSpPr>
        <p:spPr>
          <a:xfrm>
            <a:off x="611280" y="3500280"/>
            <a:ext cx="164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uric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3"/>
          <p:cNvSpPr/>
          <p:nvPr/>
        </p:nvSpPr>
        <p:spPr>
          <a:xfrm>
            <a:off x="2916360" y="414972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риптограф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4"/>
          <p:cNvSpPr/>
          <p:nvPr/>
        </p:nvSpPr>
        <p:spPr>
          <a:xfrm>
            <a:off x="1332000" y="52293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5"/>
          <p:cNvSpPr/>
          <p:nvPr/>
        </p:nvSpPr>
        <p:spPr>
          <a:xfrm>
            <a:off x="3635280" y="508464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Г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6"/>
          <p:cNvSpPr/>
          <p:nvPr/>
        </p:nvSpPr>
        <p:spPr>
          <a:xfrm>
            <a:off x="2987640" y="981000"/>
            <a:ext cx="164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WA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7"/>
          <p:cNvSpPr/>
          <p:nvPr/>
        </p:nvSpPr>
        <p:spPr>
          <a:xfrm>
            <a:off x="6300720" y="1125360"/>
            <a:ext cx="164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CI D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8"/>
          <p:cNvSpPr/>
          <p:nvPr/>
        </p:nvSpPr>
        <p:spPr>
          <a:xfrm>
            <a:off x="5724360" y="5516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otN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е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9"/>
          <p:cNvSpPr/>
          <p:nvPr/>
        </p:nvSpPr>
        <p:spPr>
          <a:xfrm>
            <a:off x="2627280" y="5732640"/>
            <a:ext cx="273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Атаки на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i-F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0"/>
          <p:cNvSpPr/>
          <p:nvPr/>
        </p:nvSpPr>
        <p:spPr>
          <a:xfrm>
            <a:off x="179280" y="83664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XSS, CSF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21"/>
          <p:cNvSpPr/>
          <p:nvPr/>
        </p:nvSpPr>
        <p:spPr>
          <a:xfrm>
            <a:off x="6227640" y="450864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NS poi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Capture The Flag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24456"/>
                </a:solidFill>
                <a:latin typeface="Trebuchet MS"/>
              </a:rPr>
              <a:t>Командные соревнования </a:t>
            </a:r>
            <a:r>
              <a:rPr b="0" lang="ru-RU" sz="4800" spc="-1" strike="noStrike">
                <a:solidFill>
                  <a:srgbClr val="424456"/>
                </a:solidFill>
                <a:latin typeface="Trebuchet MS"/>
              </a:rPr>
              <a:t>для специалистов по информационной безопасност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56908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ервый CTF в РоссииUralCTF 2006г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2" descr="http://hackerdom.ru/~znick/ctf/photos/images/dsc00114.jpg"/>
          <p:cNvPicPr/>
          <p:nvPr/>
        </p:nvPicPr>
        <p:blipFill>
          <a:blip r:embed="rId1"/>
          <a:stretch/>
        </p:blipFill>
        <p:spPr>
          <a:xfrm>
            <a:off x="826920" y="1052640"/>
            <a:ext cx="7481880" cy="56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надо уметь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нать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мьютерные се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ерационные систе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язвимости в П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S, I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редства для анализа П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иптографи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зык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сокого (низкого ур) и архитекту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изуальное чтение бинарного к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дминистрирование сете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1" descr=""/>
          <p:cNvPicPr/>
          <p:nvPr/>
        </p:nvPicPr>
        <p:blipFill>
          <a:blip r:embed="rId1"/>
          <a:stretch/>
        </p:blipFill>
        <p:spPr>
          <a:xfrm>
            <a:off x="320760" y="549360"/>
            <a:ext cx="1657440" cy="1800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"/>
          <p:cNvPicPr/>
          <p:nvPr/>
        </p:nvPicPr>
        <p:blipFill>
          <a:blip r:embed="rId2"/>
          <a:stretch/>
        </p:blipFill>
        <p:spPr>
          <a:xfrm>
            <a:off x="2556000" y="5516640"/>
            <a:ext cx="3422520" cy="11523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"/>
          <p:cNvPicPr/>
          <p:nvPr/>
        </p:nvPicPr>
        <p:blipFill>
          <a:blip r:embed="rId3"/>
          <a:stretch/>
        </p:blipFill>
        <p:spPr>
          <a:xfrm>
            <a:off x="2519280" y="1619280"/>
            <a:ext cx="1584360" cy="18097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"/>
          <p:cNvPicPr/>
          <p:nvPr/>
        </p:nvPicPr>
        <p:blipFill>
          <a:blip r:embed="rId4"/>
          <a:stretch/>
        </p:blipFill>
        <p:spPr>
          <a:xfrm>
            <a:off x="4572000" y="1290600"/>
            <a:ext cx="1440000" cy="2679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"/>
          <p:cNvPicPr/>
          <p:nvPr/>
        </p:nvPicPr>
        <p:blipFill>
          <a:blip r:embed="rId5"/>
          <a:stretch/>
        </p:blipFill>
        <p:spPr>
          <a:xfrm>
            <a:off x="358920" y="3968640"/>
            <a:ext cx="2340000" cy="15019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" descr=""/>
          <p:cNvPicPr/>
          <p:nvPr/>
        </p:nvPicPr>
        <p:blipFill>
          <a:blip r:embed="rId6"/>
          <a:stretch/>
        </p:blipFill>
        <p:spPr>
          <a:xfrm>
            <a:off x="2519280" y="4149720"/>
            <a:ext cx="1979640" cy="13572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"/>
          <p:cNvPicPr/>
          <p:nvPr/>
        </p:nvPicPr>
        <p:blipFill>
          <a:blip r:embed="rId7"/>
          <a:stretch/>
        </p:blipFill>
        <p:spPr>
          <a:xfrm>
            <a:off x="6118200" y="395280"/>
            <a:ext cx="2705040" cy="10540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8" descr=""/>
          <p:cNvPicPr/>
          <p:nvPr/>
        </p:nvPicPr>
        <p:blipFill>
          <a:blip r:embed="rId8"/>
          <a:stretch/>
        </p:blipFill>
        <p:spPr>
          <a:xfrm>
            <a:off x="6372360" y="1625760"/>
            <a:ext cx="2773080" cy="108252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9"/>
          <p:cNvSpPr/>
          <p:nvPr/>
        </p:nvSpPr>
        <p:spPr>
          <a:xfrm>
            <a:off x="5578560" y="6669000"/>
            <a:ext cx="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0"/>
          <p:cNvSpPr/>
          <p:nvPr/>
        </p:nvSpPr>
        <p:spPr>
          <a:xfrm>
            <a:off x="6838920" y="3249720"/>
            <a:ext cx="1440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748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C+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1" descr=""/>
          <p:cNvPicPr/>
          <p:nvPr/>
        </p:nvPicPr>
        <p:blipFill>
          <a:blip r:embed="rId9"/>
          <a:stretch/>
        </p:blipFill>
        <p:spPr>
          <a:xfrm>
            <a:off x="71280" y="2747880"/>
            <a:ext cx="2340000" cy="5367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2" descr=""/>
          <p:cNvPicPr/>
          <p:nvPr/>
        </p:nvPicPr>
        <p:blipFill>
          <a:blip r:embed="rId10"/>
          <a:stretch/>
        </p:blipFill>
        <p:spPr>
          <a:xfrm>
            <a:off x="5013360" y="4329000"/>
            <a:ext cx="2185920" cy="11494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13"/>
          <p:cNvSpPr/>
          <p:nvPr/>
        </p:nvSpPr>
        <p:spPr>
          <a:xfrm>
            <a:off x="7558200" y="4508640"/>
            <a:ext cx="143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748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4"/>
          <p:cNvSpPr/>
          <p:nvPr/>
        </p:nvSpPr>
        <p:spPr>
          <a:xfrm>
            <a:off x="719280" y="5769000"/>
            <a:ext cx="14396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748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SQ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5" descr=""/>
          <p:cNvPicPr/>
          <p:nvPr/>
        </p:nvPicPr>
        <p:blipFill>
          <a:blip r:embed="rId11"/>
          <a:stretch/>
        </p:blipFill>
        <p:spPr>
          <a:xfrm>
            <a:off x="2195640" y="115920"/>
            <a:ext cx="324000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D:\Docs\Infosecurity\RuCTF.png"/>
          <p:cNvPicPr/>
          <p:nvPr/>
        </p:nvPicPr>
        <p:blipFill>
          <a:blip r:embed="rId1"/>
          <a:stretch/>
        </p:blipFill>
        <p:spPr>
          <a:xfrm>
            <a:off x="179280" y="5051520"/>
            <a:ext cx="5977080" cy="1617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3" name=""/>
          <p:cNvGraphicFramePr/>
          <p:nvPr/>
        </p:nvGraphicFramePr>
        <p:xfrm>
          <a:off x="1042920" y="2276640"/>
          <a:ext cx="7777080" cy="1636560"/>
        </p:xfrm>
        <a:graphic>
          <a:graphicData uri="http://schemas.openxmlformats.org/drawingml/2006/table">
            <a:tbl>
              <a:tblPr/>
              <a:tblGrid>
                <a:gridCol w="1586160"/>
                <a:gridCol w="884160"/>
                <a:gridCol w="884160"/>
                <a:gridCol w="884160"/>
                <a:gridCol w="884160"/>
                <a:gridCol w="884520"/>
                <a:gridCol w="885600"/>
                <a:gridCol w="884160"/>
              </a:tblGrid>
              <a:tr h="490320"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8720">
                      <a:solidFill>
                        <a:srgbClr val="244061"/>
                      </a:solidFill>
                    </a:lnL>
                    <a:lnR w="18720">
                      <a:solidFill>
                        <a:srgbClr val="244061"/>
                      </a:solidFill>
                    </a:lnR>
                    <a:lnT w="18720">
                      <a:solidFill>
                        <a:srgbClr val="244061"/>
                      </a:solidFill>
                    </a:lnT>
                    <a:lnB w="18720">
                      <a:solidFill>
                        <a:srgbClr val="244061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8720">
                      <a:solidFill>
                        <a:srgbClr val="244061"/>
                      </a:solidFill>
                    </a:lnL>
                    <a:lnR w="18720">
                      <a:solidFill>
                        <a:srgbClr val="244061"/>
                      </a:solidFill>
                    </a:lnR>
                    <a:lnT w="18720">
                      <a:solidFill>
                        <a:srgbClr val="244061"/>
                      </a:solidFill>
                    </a:lnT>
                    <a:lnB w="18720">
                      <a:solidFill>
                        <a:srgbClr val="244061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8720">
                      <a:solidFill>
                        <a:srgbClr val="244061"/>
                      </a:solidFill>
                    </a:lnL>
                    <a:lnR w="18720">
                      <a:solidFill>
                        <a:srgbClr val="244061"/>
                      </a:solidFill>
                    </a:lnR>
                    <a:lnT w="18720">
                      <a:solidFill>
                        <a:srgbClr val="244061"/>
                      </a:solidFill>
                    </a:lnT>
                    <a:lnB w="18720">
                      <a:solidFill>
                        <a:srgbClr val="244061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20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8720">
                      <a:solidFill>
                        <a:srgbClr val="244061"/>
                      </a:solidFill>
                    </a:lnL>
                    <a:lnR w="18720">
                      <a:solidFill>
                        <a:srgbClr val="244061"/>
                      </a:solidFill>
                    </a:lnR>
                    <a:lnT w="18720">
                      <a:solidFill>
                        <a:srgbClr val="244061"/>
                      </a:solidFill>
                    </a:lnT>
                    <a:lnB w="18720">
                      <a:solidFill>
                        <a:srgbClr val="244061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20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8720">
                      <a:solidFill>
                        <a:srgbClr val="244061"/>
                      </a:solidFill>
                    </a:lnL>
                    <a:lnR w="18720">
                      <a:solidFill>
                        <a:srgbClr val="244061"/>
                      </a:solidFill>
                    </a:lnR>
                    <a:lnT w="18720">
                      <a:solidFill>
                        <a:srgbClr val="244061"/>
                      </a:solidFill>
                    </a:lnT>
                    <a:lnB w="18720">
                      <a:solidFill>
                        <a:srgbClr val="244061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20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8720">
                      <a:solidFill>
                        <a:srgbClr val="244061"/>
                      </a:solidFill>
                    </a:lnL>
                    <a:lnR w="18720">
                      <a:solidFill>
                        <a:srgbClr val="244061"/>
                      </a:solidFill>
                    </a:lnR>
                    <a:lnT w="18720">
                      <a:solidFill>
                        <a:srgbClr val="244061"/>
                      </a:solidFill>
                    </a:lnT>
                    <a:lnB w="18720">
                      <a:solidFill>
                        <a:srgbClr val="244061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20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8720">
                      <a:solidFill>
                        <a:srgbClr val="244061"/>
                      </a:solidFill>
                    </a:lnL>
                    <a:lnR w="18720">
                      <a:solidFill>
                        <a:srgbClr val="244061"/>
                      </a:solidFill>
                    </a:lnR>
                    <a:lnT w="18720">
                      <a:solidFill>
                        <a:srgbClr val="244061"/>
                      </a:solidFill>
                    </a:lnT>
                    <a:lnB w="18720">
                      <a:solidFill>
                        <a:srgbClr val="244061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20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8720">
                      <a:solidFill>
                        <a:srgbClr val="244061"/>
                      </a:solidFill>
                    </a:lnL>
                    <a:lnR w="18720">
                      <a:solidFill>
                        <a:srgbClr val="244061"/>
                      </a:solidFill>
                    </a:lnR>
                    <a:lnT w="18720">
                      <a:solidFill>
                        <a:srgbClr val="244061"/>
                      </a:solidFill>
                    </a:lnT>
                    <a:lnB w="18720">
                      <a:solidFill>
                        <a:srgbClr val="244061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Вуз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8720">
                      <a:solidFill>
                        <a:srgbClr val="244061"/>
                      </a:solidFill>
                    </a:lnL>
                    <a:lnR w="18720">
                      <a:solidFill>
                        <a:srgbClr val="244061"/>
                      </a:solidFill>
                    </a:lnR>
                    <a:lnT w="18720">
                      <a:solidFill>
                        <a:srgbClr val="244061"/>
                      </a:solidFill>
                    </a:lnT>
                    <a:lnB w="18720">
                      <a:solidFill>
                        <a:srgbClr val="244061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8720">
                      <a:solidFill>
                        <a:srgbClr val="244061"/>
                      </a:solidFill>
                    </a:lnL>
                    <a:lnR w="18720">
                      <a:solidFill>
                        <a:srgbClr val="244061"/>
                      </a:solidFill>
                    </a:lnR>
                    <a:lnT w="18720">
                      <a:solidFill>
                        <a:srgbClr val="244061"/>
                      </a:solidFill>
                    </a:lnT>
                    <a:lnB w="18720">
                      <a:solidFill>
                        <a:srgbClr val="244061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8720">
                      <a:solidFill>
                        <a:srgbClr val="244061"/>
                      </a:solidFill>
                    </a:lnL>
                    <a:lnR w="18720">
                      <a:solidFill>
                        <a:srgbClr val="244061"/>
                      </a:solidFill>
                    </a:lnR>
                    <a:lnT w="18720">
                      <a:solidFill>
                        <a:srgbClr val="244061"/>
                      </a:solidFill>
                    </a:lnT>
                    <a:lnB w="18720">
                      <a:solidFill>
                        <a:srgbClr val="244061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8720">
                      <a:solidFill>
                        <a:srgbClr val="244061"/>
                      </a:solidFill>
                    </a:lnL>
                    <a:lnR w="18720">
                      <a:solidFill>
                        <a:srgbClr val="244061"/>
                      </a:solidFill>
                    </a:lnR>
                    <a:lnT w="18720">
                      <a:solidFill>
                        <a:srgbClr val="244061"/>
                      </a:solidFill>
                    </a:lnT>
                    <a:lnB w="18720">
                      <a:solidFill>
                        <a:srgbClr val="244061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8720">
                      <a:solidFill>
                        <a:srgbClr val="244061"/>
                      </a:solidFill>
                    </a:lnL>
                    <a:lnR w="18720">
                      <a:solidFill>
                        <a:srgbClr val="244061"/>
                      </a:solidFill>
                    </a:lnR>
                    <a:lnT w="18720">
                      <a:solidFill>
                        <a:srgbClr val="244061"/>
                      </a:solidFill>
                    </a:lnT>
                    <a:lnB w="18720">
                      <a:solidFill>
                        <a:srgbClr val="244061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8720">
                      <a:solidFill>
                        <a:srgbClr val="244061"/>
                      </a:solidFill>
                    </a:lnL>
                    <a:lnR w="18720">
                      <a:solidFill>
                        <a:srgbClr val="244061"/>
                      </a:solidFill>
                    </a:lnR>
                    <a:lnT w="18720">
                      <a:solidFill>
                        <a:srgbClr val="244061"/>
                      </a:solidFill>
                    </a:lnT>
                    <a:lnB w="18720">
                      <a:solidFill>
                        <a:srgbClr val="244061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8720">
                      <a:solidFill>
                        <a:srgbClr val="244061"/>
                      </a:solidFill>
                    </a:lnL>
                    <a:lnR w="18720">
                      <a:solidFill>
                        <a:srgbClr val="244061"/>
                      </a:solidFill>
                    </a:lnR>
                    <a:lnT w="18720">
                      <a:solidFill>
                        <a:srgbClr val="244061"/>
                      </a:solidFill>
                    </a:lnT>
                    <a:lnB w="18720">
                      <a:solidFill>
                        <a:srgbClr val="244061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8720">
                      <a:solidFill>
                        <a:srgbClr val="244061"/>
                      </a:solidFill>
                    </a:lnL>
                    <a:lnR w="18720">
                      <a:solidFill>
                        <a:srgbClr val="244061"/>
                      </a:solidFill>
                    </a:lnR>
                    <a:lnT w="18720">
                      <a:solidFill>
                        <a:srgbClr val="244061"/>
                      </a:solidFill>
                    </a:lnT>
                    <a:lnB w="18720">
                      <a:solidFill>
                        <a:srgbClr val="244061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Участн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8720">
                      <a:solidFill>
                        <a:srgbClr val="244061"/>
                      </a:solidFill>
                    </a:lnL>
                    <a:lnR w="18720">
                      <a:solidFill>
                        <a:srgbClr val="244061"/>
                      </a:solidFill>
                    </a:lnR>
                    <a:lnT w="18720">
                      <a:solidFill>
                        <a:srgbClr val="244061"/>
                      </a:solidFill>
                    </a:lnT>
                    <a:lnB w="18720">
                      <a:solidFill>
                        <a:srgbClr val="244061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8720">
                      <a:solidFill>
                        <a:srgbClr val="244061"/>
                      </a:solidFill>
                    </a:lnL>
                    <a:lnR w="18720">
                      <a:solidFill>
                        <a:srgbClr val="244061"/>
                      </a:solidFill>
                    </a:lnR>
                    <a:lnT w="18720">
                      <a:solidFill>
                        <a:srgbClr val="244061"/>
                      </a:solidFill>
                    </a:lnT>
                    <a:lnB w="18720">
                      <a:solidFill>
                        <a:srgbClr val="244061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8720">
                      <a:solidFill>
                        <a:srgbClr val="244061"/>
                      </a:solidFill>
                    </a:lnL>
                    <a:lnR w="18720">
                      <a:solidFill>
                        <a:srgbClr val="244061"/>
                      </a:solidFill>
                    </a:lnR>
                    <a:lnT w="18720">
                      <a:solidFill>
                        <a:srgbClr val="244061"/>
                      </a:solidFill>
                    </a:lnT>
                    <a:lnB w="18720">
                      <a:solidFill>
                        <a:srgbClr val="244061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8720">
                      <a:solidFill>
                        <a:srgbClr val="244061"/>
                      </a:solidFill>
                    </a:lnL>
                    <a:lnR w="18720">
                      <a:solidFill>
                        <a:srgbClr val="244061"/>
                      </a:solidFill>
                    </a:lnR>
                    <a:lnT w="18720">
                      <a:solidFill>
                        <a:srgbClr val="244061"/>
                      </a:solidFill>
                    </a:lnT>
                    <a:lnB w="18720">
                      <a:solidFill>
                        <a:srgbClr val="244061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8720">
                      <a:solidFill>
                        <a:srgbClr val="244061"/>
                      </a:solidFill>
                    </a:lnL>
                    <a:lnR w="18720">
                      <a:solidFill>
                        <a:srgbClr val="244061"/>
                      </a:solidFill>
                    </a:lnR>
                    <a:lnT w="18720">
                      <a:solidFill>
                        <a:srgbClr val="244061"/>
                      </a:solidFill>
                    </a:lnT>
                    <a:lnB w="18720">
                      <a:solidFill>
                        <a:srgbClr val="244061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6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8720">
                      <a:solidFill>
                        <a:srgbClr val="244061"/>
                      </a:solidFill>
                    </a:lnL>
                    <a:lnR w="18720">
                      <a:solidFill>
                        <a:srgbClr val="244061"/>
                      </a:solidFill>
                    </a:lnR>
                    <a:lnT w="18720">
                      <a:solidFill>
                        <a:srgbClr val="244061"/>
                      </a:solidFill>
                    </a:lnT>
                    <a:lnB w="18720">
                      <a:solidFill>
                        <a:srgbClr val="244061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7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8720">
                      <a:solidFill>
                        <a:srgbClr val="244061"/>
                      </a:solidFill>
                    </a:lnL>
                    <a:lnR w="18720">
                      <a:solidFill>
                        <a:srgbClr val="244061"/>
                      </a:solidFill>
                    </a:lnR>
                    <a:lnT w="18720">
                      <a:solidFill>
                        <a:srgbClr val="244061"/>
                      </a:solidFill>
                    </a:lnT>
                    <a:lnB w="18720">
                      <a:solidFill>
                        <a:srgbClr val="244061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8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8720">
                      <a:solidFill>
                        <a:srgbClr val="244061"/>
                      </a:solidFill>
                    </a:lnL>
                    <a:lnR w="18720">
                      <a:solidFill>
                        <a:srgbClr val="244061"/>
                      </a:solidFill>
                    </a:lnR>
                    <a:lnT w="18720">
                      <a:solidFill>
                        <a:srgbClr val="244061"/>
                      </a:solidFill>
                    </a:lnT>
                    <a:lnB w="18720">
                      <a:solidFill>
                        <a:srgbClr val="244061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4" name="Рисунок 1" descr=""/>
          <p:cNvPicPr/>
          <p:nvPr/>
        </p:nvPicPr>
        <p:blipFill>
          <a:blip r:embed="rId2"/>
          <a:stretch/>
        </p:blipFill>
        <p:spPr>
          <a:xfrm>
            <a:off x="250920" y="404640"/>
            <a:ext cx="3298680" cy="115128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589200" y="691920"/>
            <a:ext cx="55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 2008 год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сероссийские межвузовскихе соревнования по защите информации RuCTF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6T03:20:38Z</dcterms:created>
  <dc:creator>Пользователь</dc:creator>
  <dc:description/>
  <dc:language>en-US</dc:language>
  <cp:lastModifiedBy>Лектор</cp:lastModifiedBy>
  <dcterms:modified xsi:type="dcterms:W3CDTF">2015-03-27T13:30:15Z</dcterms:modified>
  <cp:revision>58</cp:revision>
  <dc:subject/>
  <dc:title>Презентация PowerPoint</dc:title>
</cp:coreProperties>
</file>