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8C98-98BE-4748-9583-64C813996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C2B3-0426-44F6-A2D3-B0A39F006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6776-96DE-4729-991E-EC90AF139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ACCF6-66E0-4369-907C-4384A5952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2CE9-751F-400E-862C-455B0FABE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060D-FF61-4454-9815-32344B81C7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38AF3-6181-43F6-95EB-6B5EBA76D7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B55BB-9496-49ED-B95C-55E45EE21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38B1-BFDB-4628-829A-E3278FAFB1E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B33BE-6C8B-4137-96C2-4602B6E49AD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31EB9-0125-4705-96FC-198FD4D154E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19C69-F67C-49E4-8A34-B4E18B90D98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3CF7D-DB8C-4516-8C82-E6A7A0AD434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50C4-4726-477D-BC31-164F1465F6E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EC3F7-ADA3-4C6C-B5FF-E19D628A2EF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E0A60-704E-4BEA-B29D-F8CFB914C20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4B769-6ECC-42DC-8F28-215258DC7B2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E729F-2721-4713-8FA8-9013841F60B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EB1DC-1866-4607-8134-3C52EBBAA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9745-7533-4F13-8F53-D4905A80156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1C6B5-1B38-4FB2-9063-60067CE6C5C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C864-B467-405E-AC05-2A706901B3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916F-B33E-4DC4-A8A4-B11C820FE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8B9C-780E-4BA6-932E-FC60D1505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12" descr="corner.jpg"/>
          <p:cNvPicPr/>
          <p:nvPr/>
        </p:nvPicPr>
        <p:blipFill>
          <a:blip r:embed="rId2"/>
          <a:stretch/>
        </p:blipFill>
        <p:spPr>
          <a:xfrm>
            <a:off x="5040360" y="0"/>
            <a:ext cx="4103640" cy="1787400"/>
          </a:xfrm>
          <a:prstGeom prst="rect">
            <a:avLst/>
          </a:prstGeom>
          <a:ln w="0">
            <a:noFill/>
          </a:ln>
        </p:spPr>
      </p:pic>
      <p:sp>
        <p:nvSpPr>
          <p:cNvPr id="1" name="Прямоугольник 11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106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spcBef>
                <a:spcPts val="499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160200">
              <a:spcBef>
                <a:spcPts val="499"/>
              </a:spcBef>
              <a:buClr>
                <a:srgbClr val="9a5a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23880" indent="-182520">
              <a:spcBef>
                <a:spcPts val="499"/>
              </a:spcBef>
              <a:buClr>
                <a:srgbClr val="9a5a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316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7316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7316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Рисунок 6" descr="informzashita2.png"/>
          <p:cNvPicPr/>
          <p:nvPr/>
        </p:nvPicPr>
        <p:blipFill>
          <a:blip r:embed="rId4"/>
          <a:stretch/>
        </p:blipFill>
        <p:spPr>
          <a:xfrm>
            <a:off x="7888320" y="5913360"/>
            <a:ext cx="1141560" cy="755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848720" y="225000"/>
            <a:ext cx="8380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10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D6DD-3944-4DAC-8C08-D6599B956E31}" type="slidenum">
              <a:rPr b="0" lang="ru-RU" sz="1200" spc="-1" strike="noStrike">
                <a:solidFill>
                  <a:srgbClr val="6110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оугольник с двумя скругленными соседними углами 14"/>
          <p:cNvSpPr/>
          <p:nvPr/>
        </p:nvSpPr>
        <p:spPr>
          <a:xfrm>
            <a:off x="0" y="6742080"/>
            <a:ext cx="7920000" cy="115920"/>
          </a:xfrm>
          <a:custGeom>
            <a:avLst/>
            <a:gdLst/>
            <a:ahLst/>
            <a:rect l="l" t="t" r="r" b="b"/>
            <a:pathLst>
              <a:path w="7920038" h="115887">
                <a:moveTo>
                  <a:pt x="19315" y="0"/>
                </a:moveTo>
                <a:lnTo>
                  <a:pt x="7900723" y="0"/>
                </a:lnTo>
                <a:cubicBezTo>
                  <a:pt x="7911390" y="0"/>
                  <a:pt x="7920038" y="8648"/>
                  <a:pt x="7920038" y="19315"/>
                </a:cubicBezTo>
                <a:lnTo>
                  <a:pt x="7920038" y="115887"/>
                </a:lnTo>
                <a:lnTo>
                  <a:pt x="7920038" y="115887"/>
                </a:lnTo>
                <a:lnTo>
                  <a:pt x="0" y="115887"/>
                </a:lnTo>
                <a:lnTo>
                  <a:pt x="0" y="115887"/>
                </a:lnTo>
                <a:lnTo>
                  <a:pt x="0" y="19315"/>
                </a:lnTo>
                <a:cubicBezTo>
                  <a:pt x="0" y="8648"/>
                  <a:pt x="8648" y="0"/>
                  <a:pt x="19315" y="0"/>
                </a:cubicBezTo>
                <a:close/>
              </a:path>
            </a:pathLst>
          </a:custGeom>
          <a:gradFill rotWithShape="0">
            <a:gsLst>
              <a:gs pos="0">
                <a:srgbClr val="9a5aa4"/>
              </a:gs>
              <a:gs pos="100000">
                <a:srgbClr val="d5ae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Прямоугольник 15"/>
          <p:cNvGrpSpPr/>
          <p:nvPr/>
        </p:nvGrpSpPr>
        <p:grpSpPr>
          <a:xfrm>
            <a:off x="-360" y="-360"/>
            <a:ext cx="6613560" cy="438120"/>
            <a:chOff x="-360" y="-360"/>
            <a:chExt cx="6613560" cy="438120"/>
          </a:xfrm>
        </p:grpSpPr>
        <p:pic>
          <p:nvPicPr>
            <p:cNvPr id="8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661212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-360" y="-360"/>
              <a:ext cx="66135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Прямоугольник 16"/>
          <p:cNvGrpSpPr/>
          <p:nvPr/>
        </p:nvGrpSpPr>
        <p:grpSpPr>
          <a:xfrm>
            <a:off x="2530440" y="0"/>
            <a:ext cx="6613560" cy="189000"/>
            <a:chOff x="2530440" y="0"/>
            <a:chExt cx="6613560" cy="189000"/>
          </a:xfrm>
        </p:grpSpPr>
        <p:pic>
          <p:nvPicPr>
            <p:cNvPr id="11" name="Прямоугольник 16" descr=""/>
            <p:cNvPicPr/>
            <p:nvPr/>
          </p:nvPicPr>
          <p:blipFill>
            <a:blip r:embed="rId6"/>
            <a:stretch/>
          </p:blipFill>
          <p:spPr>
            <a:xfrm>
              <a:off x="2531520" y="0"/>
              <a:ext cx="661212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" name=""/>
            <p:cNvSpPr/>
            <p:nvPr/>
          </p:nvSpPr>
          <p:spPr>
            <a:xfrm>
              <a:off x="2530440" y="0"/>
              <a:ext cx="66135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Прямоугольник 17"/>
          <p:cNvGrpSpPr/>
          <p:nvPr/>
        </p:nvGrpSpPr>
        <p:grpSpPr>
          <a:xfrm>
            <a:off x="0" y="261720"/>
            <a:ext cx="3456000" cy="176040"/>
            <a:chOff x="0" y="261720"/>
            <a:chExt cx="3456000" cy="176040"/>
          </a:xfrm>
        </p:grpSpPr>
        <p:pic>
          <p:nvPicPr>
            <p:cNvPr id="14" name="Прямоугольник 17" descr=""/>
            <p:cNvPicPr/>
            <p:nvPr/>
          </p:nvPicPr>
          <p:blipFill>
            <a:blip r:embed="rId7"/>
            <a:stretch/>
          </p:blipFill>
          <p:spPr>
            <a:xfrm>
              <a:off x="0" y="263520"/>
              <a:ext cx="3456000" cy="17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"/>
            <p:cNvSpPr/>
            <p:nvPr/>
          </p:nvSpPr>
          <p:spPr>
            <a:xfrm rot="10800000">
              <a:off x="0" y="261360"/>
              <a:ext cx="345600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Прямоугольник 18"/>
          <p:cNvGrpSpPr/>
          <p:nvPr/>
        </p:nvGrpSpPr>
        <p:grpSpPr>
          <a:xfrm>
            <a:off x="5688000" y="189000"/>
            <a:ext cx="3456000" cy="109440"/>
            <a:chOff x="5688000" y="189000"/>
            <a:chExt cx="3456000" cy="109440"/>
          </a:xfrm>
        </p:grpSpPr>
        <p:pic>
          <p:nvPicPr>
            <p:cNvPr id="17" name="Прямоугольник 18" descr=""/>
            <p:cNvPicPr/>
            <p:nvPr/>
          </p:nvPicPr>
          <p:blipFill>
            <a:blip r:embed="rId8"/>
            <a:stretch/>
          </p:blipFill>
          <p:spPr>
            <a:xfrm>
              <a:off x="5688000" y="189000"/>
              <a:ext cx="3456000" cy="1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" name=""/>
            <p:cNvSpPr/>
            <p:nvPr/>
          </p:nvSpPr>
          <p:spPr>
            <a:xfrm>
              <a:off x="5688000" y="189000"/>
              <a:ext cx="3456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0" descr="cover.jpg"/>
          <p:cNvPicPr/>
          <p:nvPr/>
        </p:nvPicPr>
        <p:blipFill>
          <a:blip r:embed="rId2"/>
          <a:stretch/>
        </p:blipFill>
        <p:spPr>
          <a:xfrm>
            <a:off x="0" y="4005360"/>
            <a:ext cx="5256360" cy="28526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0" descr="dreamstime_m_10400153.jpg"/>
          <p:cNvPicPr/>
          <p:nvPr/>
        </p:nvPicPr>
        <p:blipFill>
          <a:blip r:embed="rId3"/>
          <a:stretch/>
        </p:blipFill>
        <p:spPr>
          <a:xfrm>
            <a:off x="3311640" y="441360"/>
            <a:ext cx="5392800" cy="35956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с двумя скругленными соседними углами 12"/>
          <p:cNvSpPr/>
          <p:nvPr/>
        </p:nvSpPr>
        <p:spPr>
          <a:xfrm rot="10800000">
            <a:off x="3311640" y="4005360"/>
            <a:ext cx="5400720" cy="2448000"/>
          </a:xfrm>
          <a:custGeom>
            <a:avLst/>
            <a:gdLst/>
            <a:ahLst/>
            <a:rect l="l" t="t" r="r" b="b"/>
            <a:pathLst>
              <a:path w="5400675" h="2447925">
                <a:moveTo>
                  <a:pt x="407996" y="0"/>
                </a:moveTo>
                <a:lnTo>
                  <a:pt x="4992679" y="0"/>
                </a:lnTo>
                <a:cubicBezTo>
                  <a:pt x="5218009" y="0"/>
                  <a:pt x="5400675" y="182666"/>
                  <a:pt x="5400675" y="407996"/>
                </a:cubicBezTo>
                <a:lnTo>
                  <a:pt x="5400675" y="2447925"/>
                </a:lnTo>
                <a:lnTo>
                  <a:pt x="5400675" y="2447925"/>
                </a:lnTo>
                <a:lnTo>
                  <a:pt x="0" y="2447925"/>
                </a:lnTo>
                <a:lnTo>
                  <a:pt x="0" y="2447925"/>
                </a:lnTo>
                <a:lnTo>
                  <a:pt x="0" y="407996"/>
                </a:lnTo>
                <a:cubicBezTo>
                  <a:pt x="0" y="182666"/>
                  <a:pt x="182666" y="0"/>
                  <a:pt x="407996" y="0"/>
                </a:cubicBezTo>
                <a:close/>
              </a:path>
            </a:pathLst>
          </a:custGeom>
          <a:gradFill rotWithShape="0">
            <a:gsLst>
              <a:gs pos="0">
                <a:srgbClr val="61106a"/>
              </a:gs>
              <a:gs pos="100000">
                <a:srgbClr val="9a5aa4">
                  <a:alpha val="6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360" y="4149720"/>
            <a:ext cx="4726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Прямоугольник 11"/>
          <p:cNvGrpSpPr/>
          <p:nvPr/>
        </p:nvGrpSpPr>
        <p:grpSpPr>
          <a:xfrm>
            <a:off x="-360" y="-360"/>
            <a:ext cx="6613560" cy="438120"/>
            <a:chOff x="-360" y="-360"/>
            <a:chExt cx="6613560" cy="438120"/>
          </a:xfrm>
        </p:grpSpPr>
        <p:pic>
          <p:nvPicPr>
            <p:cNvPr id="60" name="Прямоугольник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61212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rot="10800000">
              <a:off x="-360" y="-360"/>
              <a:ext cx="66135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Прямоугольник 15"/>
          <p:cNvGrpSpPr/>
          <p:nvPr/>
        </p:nvGrpSpPr>
        <p:grpSpPr>
          <a:xfrm>
            <a:off x="2530440" y="0"/>
            <a:ext cx="6613560" cy="189000"/>
            <a:chOff x="2530440" y="0"/>
            <a:chExt cx="6613560" cy="189000"/>
          </a:xfrm>
        </p:grpSpPr>
        <p:pic>
          <p:nvPicPr>
            <p:cNvPr id="63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2531520" y="0"/>
              <a:ext cx="661212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2530440" y="0"/>
              <a:ext cx="66135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Прямоугольник 17"/>
          <p:cNvGrpSpPr/>
          <p:nvPr/>
        </p:nvGrpSpPr>
        <p:grpSpPr>
          <a:xfrm>
            <a:off x="0" y="261720"/>
            <a:ext cx="3456000" cy="176040"/>
            <a:chOff x="0" y="261720"/>
            <a:chExt cx="3456000" cy="176040"/>
          </a:xfrm>
        </p:grpSpPr>
        <p:pic>
          <p:nvPicPr>
            <p:cNvPr id="66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0" y="263520"/>
              <a:ext cx="3456000" cy="17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 rot="10800000">
              <a:off x="0" y="261360"/>
              <a:ext cx="345600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Прямоугольник 18"/>
          <p:cNvGrpSpPr/>
          <p:nvPr/>
        </p:nvGrpSpPr>
        <p:grpSpPr>
          <a:xfrm>
            <a:off x="5688000" y="189000"/>
            <a:ext cx="3456000" cy="109440"/>
            <a:chOff x="5688000" y="189000"/>
            <a:chExt cx="3456000" cy="109440"/>
          </a:xfrm>
        </p:grpSpPr>
        <p:pic>
          <p:nvPicPr>
            <p:cNvPr id="69" name="Прямоугольник 18" descr=""/>
            <p:cNvPicPr/>
            <p:nvPr/>
          </p:nvPicPr>
          <p:blipFill>
            <a:blip r:embed="rId7"/>
            <a:stretch/>
          </p:blipFill>
          <p:spPr>
            <a:xfrm>
              <a:off x="5688000" y="189000"/>
              <a:ext cx="3456000" cy="1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688000" y="189000"/>
              <a:ext cx="3456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Рисунок 22" descr="informzashita2.png"/>
          <p:cNvPicPr/>
          <p:nvPr/>
        </p:nvPicPr>
        <p:blipFill>
          <a:blip r:embed="rId8"/>
          <a:stretch/>
        </p:blipFill>
        <p:spPr>
          <a:xfrm>
            <a:off x="539640" y="2600280"/>
            <a:ext cx="2556000" cy="16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9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0" descr="dreamstime_m_10400153.jpg"/>
          <p:cNvPicPr/>
          <p:nvPr/>
        </p:nvPicPr>
        <p:blipFill>
          <a:blip r:embed="rId2"/>
          <a:stretch/>
        </p:blipFill>
        <p:spPr>
          <a:xfrm>
            <a:off x="468360" y="441360"/>
            <a:ext cx="5392800" cy="3595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informzashita2.png"/>
          <p:cNvPicPr/>
          <p:nvPr/>
        </p:nvPicPr>
        <p:blipFill>
          <a:blip r:embed="rId3"/>
          <a:stretch/>
        </p:blipFill>
        <p:spPr>
          <a:xfrm>
            <a:off x="6156360" y="728640"/>
            <a:ext cx="2556000" cy="16923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с двумя скругленными соседними углами 12"/>
          <p:cNvSpPr/>
          <p:nvPr/>
        </p:nvSpPr>
        <p:spPr>
          <a:xfrm rot="10800000">
            <a:off x="468360" y="4005360"/>
            <a:ext cx="5400720" cy="2448000"/>
          </a:xfrm>
          <a:custGeom>
            <a:avLst/>
            <a:gdLst/>
            <a:ahLst/>
            <a:rect l="l" t="t" r="r" b="b"/>
            <a:pathLst>
              <a:path w="5400675" h="2447925">
                <a:moveTo>
                  <a:pt x="407996" y="0"/>
                </a:moveTo>
                <a:lnTo>
                  <a:pt x="4992679" y="0"/>
                </a:lnTo>
                <a:cubicBezTo>
                  <a:pt x="5218009" y="0"/>
                  <a:pt x="5400675" y="182666"/>
                  <a:pt x="5400675" y="407996"/>
                </a:cubicBezTo>
                <a:lnTo>
                  <a:pt x="5400675" y="2447925"/>
                </a:lnTo>
                <a:lnTo>
                  <a:pt x="5400675" y="2447925"/>
                </a:lnTo>
                <a:lnTo>
                  <a:pt x="0" y="2447925"/>
                </a:lnTo>
                <a:lnTo>
                  <a:pt x="0" y="2447925"/>
                </a:lnTo>
                <a:lnTo>
                  <a:pt x="0" y="407996"/>
                </a:lnTo>
                <a:cubicBezTo>
                  <a:pt x="0" y="182666"/>
                  <a:pt x="182666" y="0"/>
                  <a:pt x="407996" y="0"/>
                </a:cubicBezTo>
                <a:close/>
              </a:path>
            </a:pathLst>
          </a:custGeom>
          <a:gradFill rotWithShape="0">
            <a:gsLst>
              <a:gs pos="0">
                <a:srgbClr val="61106a"/>
              </a:gs>
              <a:gs pos="100000">
                <a:srgbClr val="9a5aa4">
                  <a:alpha val="6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7080" y="4149720"/>
            <a:ext cx="4726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Прямоугольник 11"/>
          <p:cNvGrpSpPr/>
          <p:nvPr/>
        </p:nvGrpSpPr>
        <p:grpSpPr>
          <a:xfrm>
            <a:off x="-360" y="-360"/>
            <a:ext cx="6613560" cy="438120"/>
            <a:chOff x="-360" y="-360"/>
            <a:chExt cx="6613560" cy="438120"/>
          </a:xfrm>
        </p:grpSpPr>
        <p:pic>
          <p:nvPicPr>
            <p:cNvPr id="114" name="Прямоугольник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61212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10800000">
              <a:off x="-360" y="-360"/>
              <a:ext cx="66135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Прямоугольник 15"/>
          <p:cNvGrpSpPr/>
          <p:nvPr/>
        </p:nvGrpSpPr>
        <p:grpSpPr>
          <a:xfrm>
            <a:off x="2530440" y="0"/>
            <a:ext cx="6613560" cy="189000"/>
            <a:chOff x="2530440" y="0"/>
            <a:chExt cx="6613560" cy="189000"/>
          </a:xfrm>
        </p:grpSpPr>
        <p:pic>
          <p:nvPicPr>
            <p:cNvPr id="117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2531520" y="0"/>
              <a:ext cx="661212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530440" y="0"/>
              <a:ext cx="66135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Прямоугольник 17"/>
          <p:cNvGrpSpPr/>
          <p:nvPr/>
        </p:nvGrpSpPr>
        <p:grpSpPr>
          <a:xfrm>
            <a:off x="0" y="261720"/>
            <a:ext cx="3456000" cy="176040"/>
            <a:chOff x="0" y="261720"/>
            <a:chExt cx="3456000" cy="176040"/>
          </a:xfrm>
        </p:grpSpPr>
        <p:pic>
          <p:nvPicPr>
            <p:cNvPr id="120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0" y="263520"/>
              <a:ext cx="3456000" cy="17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rot="10800000">
              <a:off x="0" y="261360"/>
              <a:ext cx="345600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Прямоугольник 18"/>
          <p:cNvGrpSpPr/>
          <p:nvPr/>
        </p:nvGrpSpPr>
        <p:grpSpPr>
          <a:xfrm>
            <a:off x="5688000" y="189000"/>
            <a:ext cx="3456000" cy="109440"/>
            <a:chOff x="5688000" y="189000"/>
            <a:chExt cx="3456000" cy="109440"/>
          </a:xfrm>
        </p:grpSpPr>
        <p:pic>
          <p:nvPicPr>
            <p:cNvPr id="123" name="Прямоугольник 18" descr=""/>
            <p:cNvPicPr/>
            <p:nvPr/>
          </p:nvPicPr>
          <p:blipFill>
            <a:blip r:embed="rId7"/>
            <a:stretch/>
          </p:blipFill>
          <p:spPr>
            <a:xfrm>
              <a:off x="5688000" y="189000"/>
              <a:ext cx="3456000" cy="1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688000" y="189000"/>
              <a:ext cx="3456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20" descr="cover.jpg"/>
          <p:cNvPicPr/>
          <p:nvPr/>
        </p:nvPicPr>
        <p:blipFill>
          <a:blip r:embed="rId2"/>
          <a:stretch/>
        </p:blipFill>
        <p:spPr>
          <a:xfrm>
            <a:off x="0" y="2949480"/>
            <a:ext cx="7201080" cy="39085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319280" y="2924280"/>
            <a:ext cx="42958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106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grpSp>
        <p:nvGrpSpPr>
          <p:cNvPr id="163" name="Прямоугольник 11"/>
          <p:cNvGrpSpPr/>
          <p:nvPr/>
        </p:nvGrpSpPr>
        <p:grpSpPr>
          <a:xfrm>
            <a:off x="-360" y="-360"/>
            <a:ext cx="6613560" cy="438120"/>
            <a:chOff x="-360" y="-360"/>
            <a:chExt cx="6613560" cy="438120"/>
          </a:xfrm>
        </p:grpSpPr>
        <p:pic>
          <p:nvPicPr>
            <p:cNvPr id="164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61212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10800000">
              <a:off x="-360" y="-360"/>
              <a:ext cx="66135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Прямоугольник 15"/>
          <p:cNvGrpSpPr/>
          <p:nvPr/>
        </p:nvGrpSpPr>
        <p:grpSpPr>
          <a:xfrm>
            <a:off x="2530440" y="0"/>
            <a:ext cx="6613560" cy="189000"/>
            <a:chOff x="2530440" y="0"/>
            <a:chExt cx="6613560" cy="189000"/>
          </a:xfrm>
        </p:grpSpPr>
        <p:pic>
          <p:nvPicPr>
            <p:cNvPr id="167" name="Прямоугольник 15" descr=""/>
            <p:cNvPicPr/>
            <p:nvPr/>
          </p:nvPicPr>
          <p:blipFill>
            <a:blip r:embed="rId4"/>
            <a:stretch/>
          </p:blipFill>
          <p:spPr>
            <a:xfrm>
              <a:off x="2531520" y="0"/>
              <a:ext cx="661212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530440" y="0"/>
              <a:ext cx="66135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Прямоугольник 17"/>
          <p:cNvGrpSpPr/>
          <p:nvPr/>
        </p:nvGrpSpPr>
        <p:grpSpPr>
          <a:xfrm>
            <a:off x="0" y="261720"/>
            <a:ext cx="3456000" cy="176040"/>
            <a:chOff x="0" y="261720"/>
            <a:chExt cx="3456000" cy="176040"/>
          </a:xfrm>
        </p:grpSpPr>
        <p:pic>
          <p:nvPicPr>
            <p:cNvPr id="170" name="Прямоугольник 17" descr=""/>
            <p:cNvPicPr/>
            <p:nvPr/>
          </p:nvPicPr>
          <p:blipFill>
            <a:blip r:embed="rId5"/>
            <a:stretch/>
          </p:blipFill>
          <p:spPr>
            <a:xfrm>
              <a:off x="0" y="263520"/>
              <a:ext cx="3456000" cy="17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10800000">
              <a:off x="0" y="261360"/>
              <a:ext cx="345600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Прямоугольник 18"/>
          <p:cNvGrpSpPr/>
          <p:nvPr/>
        </p:nvGrpSpPr>
        <p:grpSpPr>
          <a:xfrm>
            <a:off x="5688000" y="189000"/>
            <a:ext cx="3456000" cy="109440"/>
            <a:chOff x="5688000" y="189000"/>
            <a:chExt cx="3456000" cy="109440"/>
          </a:xfrm>
        </p:grpSpPr>
        <p:pic>
          <p:nvPicPr>
            <p:cNvPr id="173" name="Прямоугольник 18" descr=""/>
            <p:cNvPicPr/>
            <p:nvPr/>
          </p:nvPicPr>
          <p:blipFill>
            <a:blip r:embed="rId6"/>
            <a:stretch/>
          </p:blipFill>
          <p:spPr>
            <a:xfrm>
              <a:off x="5688000" y="189000"/>
              <a:ext cx="3456000" cy="1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688000" y="189000"/>
              <a:ext cx="3456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Рисунок 16" descr="informzashita1.png"/>
          <p:cNvPicPr/>
          <p:nvPr/>
        </p:nvPicPr>
        <p:blipFill>
          <a:blip r:embed="rId7"/>
          <a:stretch/>
        </p:blipFill>
        <p:spPr>
          <a:xfrm>
            <a:off x="5940360" y="1413000"/>
            <a:ext cx="2590920" cy="96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12" descr="corner.jpg"/>
          <p:cNvPicPr/>
          <p:nvPr/>
        </p:nvPicPr>
        <p:blipFill>
          <a:blip r:embed="rId2"/>
          <a:stretch/>
        </p:blipFill>
        <p:spPr>
          <a:xfrm>
            <a:off x="5040360" y="0"/>
            <a:ext cx="4103640" cy="178740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11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6" descr="informzashita2.png"/>
          <p:cNvPicPr/>
          <p:nvPr/>
        </p:nvPicPr>
        <p:blipFill>
          <a:blip r:embed="rId3"/>
          <a:stretch/>
        </p:blipFill>
        <p:spPr>
          <a:xfrm>
            <a:off x="7888320" y="5913360"/>
            <a:ext cx="1141560" cy="75564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с двумя скругленными соседними углами 14"/>
          <p:cNvSpPr/>
          <p:nvPr/>
        </p:nvSpPr>
        <p:spPr>
          <a:xfrm>
            <a:off x="0" y="6742080"/>
            <a:ext cx="7920000" cy="115920"/>
          </a:xfrm>
          <a:custGeom>
            <a:avLst/>
            <a:gdLst/>
            <a:ahLst/>
            <a:rect l="l" t="t" r="r" b="b"/>
            <a:pathLst>
              <a:path w="7920038" h="115887">
                <a:moveTo>
                  <a:pt x="19315" y="0"/>
                </a:moveTo>
                <a:lnTo>
                  <a:pt x="7900723" y="0"/>
                </a:lnTo>
                <a:cubicBezTo>
                  <a:pt x="7911390" y="0"/>
                  <a:pt x="7920038" y="8648"/>
                  <a:pt x="7920038" y="19315"/>
                </a:cubicBezTo>
                <a:lnTo>
                  <a:pt x="7920038" y="115887"/>
                </a:lnTo>
                <a:lnTo>
                  <a:pt x="7920038" y="115887"/>
                </a:lnTo>
                <a:lnTo>
                  <a:pt x="0" y="115887"/>
                </a:lnTo>
                <a:lnTo>
                  <a:pt x="0" y="115887"/>
                </a:lnTo>
                <a:lnTo>
                  <a:pt x="0" y="19315"/>
                </a:lnTo>
                <a:cubicBezTo>
                  <a:pt x="0" y="8648"/>
                  <a:pt x="8648" y="0"/>
                  <a:pt x="19315" y="0"/>
                </a:cubicBezTo>
                <a:close/>
              </a:path>
            </a:pathLst>
          </a:custGeom>
          <a:gradFill rotWithShape="0">
            <a:gsLst>
              <a:gs pos="0">
                <a:srgbClr val="9a5aa4"/>
              </a:gs>
              <a:gs pos="100000">
                <a:srgbClr val="d5ae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Прямоугольник 15"/>
          <p:cNvGrpSpPr/>
          <p:nvPr/>
        </p:nvGrpSpPr>
        <p:grpSpPr>
          <a:xfrm>
            <a:off x="-360" y="-360"/>
            <a:ext cx="6613560" cy="438120"/>
            <a:chOff x="-360" y="-360"/>
            <a:chExt cx="6613560" cy="438120"/>
          </a:xfrm>
        </p:grpSpPr>
        <p:pic>
          <p:nvPicPr>
            <p:cNvPr id="217" name="Прямоугольник 15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61212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 rot="10800000">
              <a:off x="-360" y="-360"/>
              <a:ext cx="66135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Прямоугольник 16"/>
          <p:cNvGrpSpPr/>
          <p:nvPr/>
        </p:nvGrpSpPr>
        <p:grpSpPr>
          <a:xfrm>
            <a:off x="2530440" y="0"/>
            <a:ext cx="6613560" cy="189000"/>
            <a:chOff x="2530440" y="0"/>
            <a:chExt cx="6613560" cy="189000"/>
          </a:xfrm>
        </p:grpSpPr>
        <p:pic>
          <p:nvPicPr>
            <p:cNvPr id="220" name="Прямоугольник 16" descr=""/>
            <p:cNvPicPr/>
            <p:nvPr/>
          </p:nvPicPr>
          <p:blipFill>
            <a:blip r:embed="rId5"/>
            <a:stretch/>
          </p:blipFill>
          <p:spPr>
            <a:xfrm>
              <a:off x="2531520" y="0"/>
              <a:ext cx="661212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2530440" y="0"/>
              <a:ext cx="66135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Прямоугольник 17"/>
          <p:cNvGrpSpPr/>
          <p:nvPr/>
        </p:nvGrpSpPr>
        <p:grpSpPr>
          <a:xfrm>
            <a:off x="0" y="261720"/>
            <a:ext cx="3456000" cy="176040"/>
            <a:chOff x="0" y="261720"/>
            <a:chExt cx="3456000" cy="176040"/>
          </a:xfrm>
        </p:grpSpPr>
        <p:pic>
          <p:nvPicPr>
            <p:cNvPr id="223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0" y="263520"/>
              <a:ext cx="3456000" cy="17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rot="10800000">
              <a:off x="0" y="261360"/>
              <a:ext cx="345600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Прямоугольник 18"/>
          <p:cNvGrpSpPr/>
          <p:nvPr/>
        </p:nvGrpSpPr>
        <p:grpSpPr>
          <a:xfrm>
            <a:off x="5688000" y="189000"/>
            <a:ext cx="3456000" cy="109440"/>
            <a:chOff x="5688000" y="189000"/>
            <a:chExt cx="3456000" cy="109440"/>
          </a:xfrm>
        </p:grpSpPr>
        <p:pic>
          <p:nvPicPr>
            <p:cNvPr id="226" name="Прямоугольник 18" descr=""/>
            <p:cNvPicPr/>
            <p:nvPr/>
          </p:nvPicPr>
          <p:blipFill>
            <a:blip r:embed="rId7"/>
            <a:stretch/>
          </p:blipFill>
          <p:spPr>
            <a:xfrm>
              <a:off x="5688000" y="189000"/>
              <a:ext cx="3456000" cy="1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688000" y="189000"/>
              <a:ext cx="3456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106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spcBef>
                <a:spcPts val="499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160200">
              <a:spcBef>
                <a:spcPts val="499"/>
              </a:spcBef>
              <a:buClr>
                <a:srgbClr val="9a5a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23880" indent="-182520">
              <a:spcBef>
                <a:spcPts val="499"/>
              </a:spcBef>
              <a:buClr>
                <a:srgbClr val="9a5a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316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7316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7316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"/>
          </p:nvPr>
        </p:nvSpPr>
        <p:spPr>
          <a:xfrm>
            <a:off x="7811640" y="262080"/>
            <a:ext cx="8384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10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3A4B-E625-4F11-A51B-E437571ED17F}" type="slidenum">
              <a:rPr b="0" lang="ru-RU" sz="1200" spc="-1" strike="noStrike">
                <a:solidFill>
                  <a:srgbClr val="6110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Рисунок 12" descr="corner.jpg"/>
          <p:cNvPicPr/>
          <p:nvPr/>
        </p:nvPicPr>
        <p:blipFill>
          <a:blip r:embed="rId2"/>
          <a:stretch/>
        </p:blipFill>
        <p:spPr>
          <a:xfrm>
            <a:off x="5040360" y="0"/>
            <a:ext cx="4103640" cy="178740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11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Рисунок 6" descr="informzashita2.png"/>
          <p:cNvPicPr/>
          <p:nvPr/>
        </p:nvPicPr>
        <p:blipFill>
          <a:blip r:embed="rId3"/>
          <a:stretch/>
        </p:blipFill>
        <p:spPr>
          <a:xfrm>
            <a:off x="7888320" y="5913360"/>
            <a:ext cx="1141560" cy="75564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с двумя скругленными соседними углами 14"/>
          <p:cNvSpPr/>
          <p:nvPr/>
        </p:nvSpPr>
        <p:spPr>
          <a:xfrm>
            <a:off x="0" y="6742080"/>
            <a:ext cx="7920000" cy="115920"/>
          </a:xfrm>
          <a:custGeom>
            <a:avLst/>
            <a:gdLst/>
            <a:ahLst/>
            <a:rect l="l" t="t" r="r" b="b"/>
            <a:pathLst>
              <a:path w="7920038" h="115887">
                <a:moveTo>
                  <a:pt x="19315" y="0"/>
                </a:moveTo>
                <a:lnTo>
                  <a:pt x="7900723" y="0"/>
                </a:lnTo>
                <a:cubicBezTo>
                  <a:pt x="7911390" y="0"/>
                  <a:pt x="7920038" y="8648"/>
                  <a:pt x="7920038" y="19315"/>
                </a:cubicBezTo>
                <a:lnTo>
                  <a:pt x="7920038" y="115887"/>
                </a:lnTo>
                <a:lnTo>
                  <a:pt x="7920038" y="115887"/>
                </a:lnTo>
                <a:lnTo>
                  <a:pt x="0" y="115887"/>
                </a:lnTo>
                <a:lnTo>
                  <a:pt x="0" y="115887"/>
                </a:lnTo>
                <a:lnTo>
                  <a:pt x="0" y="19315"/>
                </a:lnTo>
                <a:cubicBezTo>
                  <a:pt x="0" y="8648"/>
                  <a:pt x="8648" y="0"/>
                  <a:pt x="19315" y="0"/>
                </a:cubicBezTo>
                <a:close/>
              </a:path>
            </a:pathLst>
          </a:custGeom>
          <a:gradFill rotWithShape="0">
            <a:gsLst>
              <a:gs pos="0">
                <a:srgbClr val="9a5aa4"/>
              </a:gs>
              <a:gs pos="100000">
                <a:srgbClr val="d5ae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Прямоугольник 15"/>
          <p:cNvGrpSpPr/>
          <p:nvPr/>
        </p:nvGrpSpPr>
        <p:grpSpPr>
          <a:xfrm>
            <a:off x="-360" y="-360"/>
            <a:ext cx="6613560" cy="438120"/>
            <a:chOff x="-360" y="-360"/>
            <a:chExt cx="6613560" cy="438120"/>
          </a:xfrm>
        </p:grpSpPr>
        <p:pic>
          <p:nvPicPr>
            <p:cNvPr id="272" name="Прямоугольник 15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61212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rot="10800000">
              <a:off x="-360" y="-360"/>
              <a:ext cx="66135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Прямоугольник 16"/>
          <p:cNvGrpSpPr/>
          <p:nvPr/>
        </p:nvGrpSpPr>
        <p:grpSpPr>
          <a:xfrm>
            <a:off x="2530440" y="0"/>
            <a:ext cx="6613560" cy="189000"/>
            <a:chOff x="2530440" y="0"/>
            <a:chExt cx="6613560" cy="189000"/>
          </a:xfrm>
        </p:grpSpPr>
        <p:pic>
          <p:nvPicPr>
            <p:cNvPr id="275" name="Прямоугольник 16" descr=""/>
            <p:cNvPicPr/>
            <p:nvPr/>
          </p:nvPicPr>
          <p:blipFill>
            <a:blip r:embed="rId5"/>
            <a:stretch/>
          </p:blipFill>
          <p:spPr>
            <a:xfrm>
              <a:off x="2531520" y="0"/>
              <a:ext cx="661212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530440" y="0"/>
              <a:ext cx="66135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Прямоугольник 17"/>
          <p:cNvGrpSpPr/>
          <p:nvPr/>
        </p:nvGrpSpPr>
        <p:grpSpPr>
          <a:xfrm>
            <a:off x="0" y="261720"/>
            <a:ext cx="3456000" cy="176040"/>
            <a:chOff x="0" y="261720"/>
            <a:chExt cx="3456000" cy="176040"/>
          </a:xfrm>
        </p:grpSpPr>
        <p:pic>
          <p:nvPicPr>
            <p:cNvPr id="278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0" y="263520"/>
              <a:ext cx="3456000" cy="17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 rot="10800000">
              <a:off x="0" y="261360"/>
              <a:ext cx="345600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Прямоугольник 18"/>
          <p:cNvGrpSpPr/>
          <p:nvPr/>
        </p:nvGrpSpPr>
        <p:grpSpPr>
          <a:xfrm>
            <a:off x="5688000" y="189000"/>
            <a:ext cx="3456000" cy="109440"/>
            <a:chOff x="5688000" y="189000"/>
            <a:chExt cx="3456000" cy="109440"/>
          </a:xfrm>
        </p:grpSpPr>
        <p:pic>
          <p:nvPicPr>
            <p:cNvPr id="281" name="Прямоугольник 18" descr=""/>
            <p:cNvPicPr/>
            <p:nvPr/>
          </p:nvPicPr>
          <p:blipFill>
            <a:blip r:embed="rId7"/>
            <a:stretch/>
          </p:blipFill>
          <p:spPr>
            <a:xfrm>
              <a:off x="5688000" y="189000"/>
              <a:ext cx="3456000" cy="1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688000" y="189000"/>
              <a:ext cx="3456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106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spcBef>
                <a:spcPts val="499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160200">
              <a:spcBef>
                <a:spcPts val="499"/>
              </a:spcBef>
              <a:buClr>
                <a:srgbClr val="9a5a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23880" indent="-182520">
              <a:spcBef>
                <a:spcPts val="499"/>
              </a:spcBef>
              <a:buClr>
                <a:srgbClr val="9a5a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316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7316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7316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3"/>
          <p:cNvSpPr/>
          <p:nvPr/>
        </p:nvSpPr>
        <p:spPr>
          <a:xfrm>
            <a:off x="6084720" y="4545000"/>
            <a:ext cx="2592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106a"/>
                </a:solidFill>
                <a:latin typeface="Arial"/>
              </a:rPr>
              <a:t>Савельев Михаил Сергеевич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1106a"/>
                </a:solidFill>
                <a:latin typeface="Arial"/>
              </a:rPr>
              <a:t>Директор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4149360"/>
            <a:ext cx="52927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блематика использования профессионального стандар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06a"/>
                </a:solidFill>
                <a:latin typeface="Arial"/>
              </a:rPr>
              <a:t>Применение профессиональных стандартов</a:t>
            </a: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16000" y="1557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ода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spcBef>
                <a:spcPts val="451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формировании кадровой политики и в управлении персонал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spcBef>
                <a:spcPts val="451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рганизации обучения и аттестации работни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spcBef>
                <a:spcPts val="451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е должностных инструкц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spcBef>
                <a:spcPts val="451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рификации работ, присвоении тарифных разрядов работникам и установлении систем оплаты труда с учетом особенностей организации производства, труда и упр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разовательными организациями профессионального образования при разработке профессиональных образовательн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 разработке в установленном порядке федеральных государственных образовательных стандартов профессиональ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7812000" y="262080"/>
            <a:ext cx="838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E8C7-DA27-4AEB-92E6-00F05BE51ED0}" type="slidenum">
              <a:rPr b="0" lang="ru-RU" sz="1200" spc="-1" strike="noStrike">
                <a:solidFill>
                  <a:srgbClr val="6110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06a"/>
                </a:solidFill>
                <a:latin typeface="Arial"/>
              </a:rPr>
              <a:t>Формулировка из профстандарта</a:t>
            </a: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37592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я оценки квалификации и сертификации работников, а также выпускников учреждений профессионального образов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я государственных образовательных стандартов и программ всех уровней профессионального образования, в том числе обучения персонала на предприятиях, а также для разработки учебно- методических материалов к этим программа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я широкого круга задач в области управления персоналом (разработки стандартов предприятия, систем мотивации и стимулирования персонала, должностных инструкций; тарификации должностей; отбора, подбора и аттестации персонала, планирования карьер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я процедур стандартизации и унификации в рамках вида (видов) экономической деятельности (установление и поддержание единых требований к содержанию и качеству профессиональной деятельности, согласование наименований должностей, упорядочивание видов трудовой деятельности и п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7812000" y="262080"/>
            <a:ext cx="838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D6FD-F4B0-4EBE-8E4B-79785532BDA4}" type="slidenum">
              <a:rPr b="0" lang="ru-RU" sz="1200" spc="-1" strike="noStrike">
                <a:solidFill>
                  <a:srgbClr val="6110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06a"/>
                </a:solidFill>
                <a:latin typeface="Arial"/>
              </a:rPr>
              <a:t>Потребности заказчика</a:t>
            </a: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73040" y="170028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ЫТ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шение задач предприятия!!! (профессиональные навык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Знание и понимание отраслевой специф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муникативные навыки, лояльность, непротиворечие коллектив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мение исполнять вспомогательные и связанные задач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Хорошая базовая подготов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7812000" y="262080"/>
            <a:ext cx="838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CE77-2BD4-499D-8AE9-82C5F0B373B6}" type="slidenum">
              <a:rPr b="0" lang="ru-RU" sz="1200" spc="-1" strike="noStrike">
                <a:solidFill>
                  <a:srgbClr val="6110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6000" y="22716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06a"/>
                </a:solidFill>
                <a:latin typeface="Arial"/>
              </a:rPr>
              <a:t>Место стандарта</a:t>
            </a: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671640" y="818640"/>
            <a:ext cx="53276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кая скорость изменения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кая динамика изменения нормативной б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разнообразие продуктов и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321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к соответствующий профстандарту – не навсегда совершенен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ОТВЕТСТВИЯ НЕ БУДЕТ НИКОГДА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буется постоянная актуализация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ДПО ТРЕБОВАНИЙ НЕТ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7812000" y="262080"/>
            <a:ext cx="838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0282-949D-4547-984B-58C66E122D91}" type="slidenum">
              <a:rPr b="0" lang="ru-RU" sz="1200" spc="-1" strike="noStrike">
                <a:solidFill>
                  <a:srgbClr val="6110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кругленный прямоугольник 4"/>
          <p:cNvSpPr/>
          <p:nvPr/>
        </p:nvSpPr>
        <p:spPr>
          <a:xfrm>
            <a:off x="719280" y="5481720"/>
            <a:ext cx="2557440" cy="684000"/>
          </a:xfrm>
          <a:prstGeom prst="roundRect">
            <a:avLst>
              <a:gd name="adj" fmla="val 16667"/>
            </a:avLst>
          </a:prstGeom>
          <a:solidFill>
            <a:srgbClr val="9a5aa4"/>
          </a:solidFill>
          <a:ln w="25560">
            <a:solidFill>
              <a:srgbClr val="7040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нятийный аппа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ый прямоугольник 5"/>
          <p:cNvSpPr/>
          <p:nvPr/>
        </p:nvSpPr>
        <p:spPr>
          <a:xfrm>
            <a:off x="684360" y="4545000"/>
            <a:ext cx="2555640" cy="684360"/>
          </a:xfrm>
          <a:prstGeom prst="roundRect">
            <a:avLst>
              <a:gd name="adj" fmla="val 16667"/>
            </a:avLst>
          </a:prstGeom>
          <a:solidFill>
            <a:srgbClr val="9a5aa4"/>
          </a:solidFill>
          <a:ln w="25560">
            <a:solidFill>
              <a:srgbClr val="7040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ы специ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6"/>
          <p:cNvSpPr/>
          <p:nvPr/>
        </p:nvSpPr>
        <p:spPr>
          <a:xfrm>
            <a:off x="647640" y="3357720"/>
            <a:ext cx="2556000" cy="934920"/>
          </a:xfrm>
          <a:prstGeom prst="roundRect">
            <a:avLst>
              <a:gd name="adj" fmla="val 16667"/>
            </a:avLst>
          </a:prstGeom>
          <a:solidFill>
            <a:srgbClr val="cf35e0"/>
          </a:solidFill>
          <a:ln w="25560">
            <a:solidFill>
              <a:srgbClr val="7040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ческие (профессиональные)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кругленный прямоугольник 7"/>
          <p:cNvSpPr/>
          <p:nvPr/>
        </p:nvSpPr>
        <p:spPr>
          <a:xfrm>
            <a:off x="561960" y="2459160"/>
            <a:ext cx="2556000" cy="682560"/>
          </a:xfrm>
          <a:prstGeom prst="roundRect">
            <a:avLst>
              <a:gd name="adj" fmla="val 16667"/>
            </a:avLst>
          </a:prstGeom>
          <a:solidFill>
            <a:srgbClr val="efbcf5"/>
          </a:solidFill>
          <a:ln w="25560">
            <a:solidFill>
              <a:srgbClr val="7040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межные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кругленный прямоугольник 8"/>
          <p:cNvSpPr/>
          <p:nvPr/>
        </p:nvSpPr>
        <p:spPr>
          <a:xfrm>
            <a:off x="241200" y="1374840"/>
            <a:ext cx="3106800" cy="938160"/>
          </a:xfrm>
          <a:prstGeom prst="roundRect">
            <a:avLst>
              <a:gd name="adj" fmla="val 16667"/>
            </a:avLst>
          </a:prstGeom>
          <a:solidFill>
            <a:srgbClr val="efbcf5"/>
          </a:solidFill>
          <a:ln w="25560">
            <a:solidFill>
              <a:srgbClr val="7040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ктуализация знаний и нав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авая фигурная скобка 9"/>
          <p:cNvSpPr/>
          <p:nvPr/>
        </p:nvSpPr>
        <p:spPr>
          <a:xfrm>
            <a:off x="3276720" y="4329000"/>
            <a:ext cx="395280" cy="1871640"/>
          </a:xfrm>
          <a:custGeom>
            <a:avLst/>
            <a:gdLst>
              <a:gd name="textAreaLeft" fmla="*/ 0 w 395280"/>
              <a:gd name="textAreaRight" fmla="*/ 142560 w 395280"/>
              <a:gd name="textAreaTop" fmla="*/ 10080 h 1871640"/>
              <a:gd name="textAreaBottom" fmla="*/ 186156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0"/>
                  <a:pt x="10800" y="380"/>
                </a:cubicBezTo>
                <a:lnTo>
                  <a:pt x="10800" y="10420"/>
                </a:lnTo>
                <a:cubicBezTo>
                  <a:pt x="10800" y="10610"/>
                  <a:pt x="16200" y="10800"/>
                  <a:pt x="21600" y="10800"/>
                </a:cubicBezTo>
                <a:cubicBezTo>
                  <a:pt x="16200" y="10800"/>
                  <a:pt x="10800" y="10990"/>
                  <a:pt x="10800" y="11180"/>
                </a:cubicBezTo>
                <a:lnTo>
                  <a:pt x="10800" y="21220"/>
                </a:lnTo>
                <a:cubicBezTo>
                  <a:pt x="10800" y="2141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856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одержимое 2"/>
          <p:cNvSpPr/>
          <p:nvPr/>
        </p:nvSpPr>
        <p:spPr>
          <a:xfrm>
            <a:off x="3887640" y="5049720"/>
            <a:ext cx="4870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может описать Профстанд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06a"/>
                </a:solidFill>
                <a:latin typeface="Arial"/>
              </a:rPr>
              <a:t>Кто заказчик обучения?? (Кто платит?)</a:t>
            </a: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сударство…. (если место бюджетное, но потом нет обязательств работать) -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но есть ли разнорядки??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Есть ли обязательства отработа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 обучаемый…  -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не допущен к формированию требований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Коммерческие компании ?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Кто не платит – не формирует требования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7812000" y="262080"/>
            <a:ext cx="838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4260-CDF6-4093-B60C-CDCB0E5BF9C0}" type="slidenum">
              <a:rPr b="0" lang="ru-RU" sz="1200" spc="-1" strike="noStrike">
                <a:solidFill>
                  <a:srgbClr val="6110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06a"/>
                </a:solidFill>
                <a:latin typeface="Arial"/>
              </a:rPr>
              <a:t>Зачем нужен профстандарт кадровикам?</a:t>
            </a: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что мы можем спросить??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написанному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е. мы должны иметь в дипломе специальность, соответствующую стандарту – это большая ответственнос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это рекомендация – 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7812000" y="262080"/>
            <a:ext cx="838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8F6F-335B-41F5-922C-FBB23FCD9F09}" type="slidenum">
              <a:rPr b="0" lang="ru-RU" sz="1200" spc="-1" strike="noStrike">
                <a:solidFill>
                  <a:srgbClr val="6110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06a"/>
                </a:solidFill>
                <a:latin typeface="Arial"/>
              </a:rPr>
              <a:t>Проблемы применения</a:t>
            </a: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ть агроном, хочет стать ИБ-шни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 ДПО надо учесть разницу между профстандартами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7812000" y="262080"/>
            <a:ext cx="838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9BED-62DA-4CA0-831A-D8794B773CA1}" type="slidenum">
              <a:rPr b="0" lang="ru-RU" sz="1200" spc="-1" strike="noStrike">
                <a:solidFill>
                  <a:srgbClr val="6110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06a"/>
                </a:solidFill>
                <a:latin typeface="Arial"/>
              </a:rPr>
              <a:t>Проблема применения</a:t>
            </a: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80792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 уров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УЗ готовит на каком уров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готовит на более высокий уровен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именно надо повысить, чтобы уверенно сказать, что ты соответствуешь новому уровн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контролирует и принимает экзамен на соответствие новому уровн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7812000" y="262080"/>
            <a:ext cx="838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2707-60F0-463D-84C3-1AC7ECE9B20F}" type="slidenum">
              <a:rPr b="0" lang="ru-RU" sz="1200" spc="-1" strike="noStrike">
                <a:solidFill>
                  <a:srgbClr val="6110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06a"/>
                </a:solidFill>
                <a:latin typeface="Arial"/>
              </a:rPr>
              <a:t>Пример: нужен преподаватель ДПО в ИБ</a:t>
            </a: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66536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53080" indent="-25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реподав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080" indent="-25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080" indent="-25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И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080" indent="-25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юр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080" indent="-25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080" indent="-25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080" indent="-25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им профилям он должен соответствовать и как его такого подготовить и взять на работу??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080" indent="-25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ы цепочки ПТУ…- …- Академ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7812000" y="262080"/>
            <a:ext cx="838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633F-4B1B-4BFA-8FB5-D527EC38222D}" type="slidenum">
              <a:rPr b="0" lang="ru-RU" sz="1200" spc="-1" strike="noStrike">
                <a:solidFill>
                  <a:srgbClr val="6110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06a"/>
                </a:solidFill>
                <a:latin typeface="Arial"/>
              </a:rPr>
              <a:t>Проблематика подготовки специалистов</a:t>
            </a: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86040" y="1700280"/>
            <a:ext cx="4306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азчик (работодатель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улятор (стандарт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У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7812000" y="262080"/>
            <a:ext cx="838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DDFA-A357-41BF-9F2D-D6B45CC9E2C2}" type="slidenum">
              <a:rPr b="0" lang="ru-RU" sz="1200" spc="-1" strike="noStrike">
                <a:solidFill>
                  <a:srgbClr val="6110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Рисунок 4" descr=""/>
          <p:cNvPicPr/>
          <p:nvPr/>
        </p:nvPicPr>
        <p:blipFill>
          <a:blip r:embed="rId8"/>
          <a:stretch/>
        </p:blipFill>
        <p:spPr>
          <a:xfrm>
            <a:off x="117360" y="1974960"/>
            <a:ext cx="445932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06a"/>
                </a:solidFill>
                <a:latin typeface="Arial"/>
              </a:rPr>
              <a:t>Главное</a:t>
            </a:r>
            <a:r>
              <a:rPr b="0" lang="en-US" sz="3200" spc="-1" strike="noStrike">
                <a:solidFill>
                  <a:srgbClr val="61106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401720" y="1665360"/>
            <a:ext cx="42958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жаю огромное Уважение тем, кто  пытался, работа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сдела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ойный докумен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аких сложных внешних услов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7812000" y="262080"/>
            <a:ext cx="838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5B53-BC56-43E3-9E25-BB5A1861656F}" type="slidenum">
              <a:rPr b="0" lang="ru-RU" sz="1200" spc="-1" strike="noStrike">
                <a:solidFill>
                  <a:srgbClr val="6110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Рисунок 4" descr=""/>
          <p:cNvPicPr/>
          <p:nvPr/>
        </p:nvPicPr>
        <p:blipFill>
          <a:blip r:embed="rId1"/>
          <a:stretch/>
        </p:blipFill>
        <p:spPr>
          <a:xfrm>
            <a:off x="108000" y="1800360"/>
            <a:ext cx="414324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61106a"/>
              </a:solidFill>
              <a:latin typeface="Arial"/>
            </a:endParaRPr>
          </a:p>
        </p:txBody>
      </p:sp>
      <p:pic>
        <p:nvPicPr>
          <p:cNvPr id="394" name="Объект 5" descr=""/>
          <p:cNvPicPr/>
          <p:nvPr/>
        </p:nvPicPr>
        <p:blipFill>
          <a:blip r:embed="rId1"/>
          <a:stretch/>
        </p:blipFill>
        <p:spPr>
          <a:xfrm>
            <a:off x="216000" y="981000"/>
            <a:ext cx="8786880" cy="4900680"/>
          </a:xfrm>
          <a:prstGeom prst="rect">
            <a:avLst/>
          </a:prstGeom>
          <a:ln w="0">
            <a:noFill/>
          </a:ln>
        </p:spPr>
      </p:pic>
      <p:sp>
        <p:nvSpPr>
          <p:cNvPr id="395" name="Номер слайда 3"/>
          <p:cNvSpPr/>
          <p:nvPr/>
        </p:nvSpPr>
        <p:spPr>
          <a:xfrm>
            <a:off x="7812000" y="262080"/>
            <a:ext cx="838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E9EC-61EE-49B4-A5F5-669FACB1D58D}" type="slidenum">
              <a:rPr b="0" lang="ru-RU" sz="1200" spc="-1" strike="noStrike">
                <a:solidFill>
                  <a:srgbClr val="6110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16000" y="1952640"/>
            <a:ext cx="67802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06a"/>
                </a:solidFill>
                <a:latin typeface="Arial"/>
              </a:rPr>
              <a:t>Благодарим за внимание!</a:t>
            </a: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97" name="Прямоугольник 10"/>
          <p:cNvSpPr/>
          <p:nvPr/>
        </p:nvSpPr>
        <p:spPr>
          <a:xfrm>
            <a:off x="3024360" y="3105000"/>
            <a:ext cx="521964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5aa4"/>
                </a:solidFill>
                <a:latin typeface="Arial"/>
              </a:rPr>
              <a:t>Конта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ый центр «Информзащи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ул. Образцова, 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7 (495) 980-23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@itsecurity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itsecurity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06a"/>
                </a:solidFill>
                <a:latin typeface="Arial"/>
              </a:rPr>
              <a:t>Основная проблема</a:t>
            </a: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319280" y="1773360"/>
            <a:ext cx="4645080" cy="32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При обсуждении профстандарта </a:t>
            </a:r>
            <a:br>
              <a:rPr sz="3700"/>
            </a:b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мы углубляемся </a:t>
            </a:r>
            <a:br>
              <a:rPr sz="3700"/>
            </a:b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в его суть и </a:t>
            </a:r>
            <a:br>
              <a:rPr sz="3700"/>
            </a:b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обсуждаем его качество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7812000" y="262080"/>
            <a:ext cx="838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75A5-94BE-49C8-B240-499BA3302FAE}" type="slidenum">
              <a:rPr b="0" lang="ru-RU" sz="1200" spc="-1" strike="noStrike">
                <a:solidFill>
                  <a:srgbClr val="6110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Рисунок 1" descr=""/>
          <p:cNvPicPr/>
          <p:nvPr/>
        </p:nvPicPr>
        <p:blipFill>
          <a:blip r:embed="rId1"/>
          <a:stretch/>
        </p:blipFill>
        <p:spPr>
          <a:xfrm>
            <a:off x="-9360" y="1773360"/>
            <a:ext cx="3774960" cy="321624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2"/>
          <p:cNvSpPr/>
          <p:nvPr/>
        </p:nvSpPr>
        <p:spPr>
          <a:xfrm>
            <a:off x="507960" y="5216400"/>
            <a:ext cx="81932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авайте посмотрим на проблематику шире!!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06a"/>
                </a:solidFill>
                <a:latin typeface="Arial"/>
              </a:rPr>
              <a:t>Главные вопросы</a:t>
            </a: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транах развитой демократии есть практика внедрения профстандар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в странах, принявших болонскую систему понятие образовательного стандар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ы опять идем своим путе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7812000" y="262080"/>
            <a:ext cx="838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D1DD-340C-4FF3-BF5D-FCB58A2389AC}" type="slidenum">
              <a:rPr b="0" lang="ru-RU" sz="1200" spc="-1" strike="noStrike">
                <a:solidFill>
                  <a:srgbClr val="6110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06a"/>
                </a:solidFill>
                <a:latin typeface="Arial"/>
              </a:rPr>
              <a:t>Нам предстоит связать несвязуемое</a:t>
            </a: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0560" y="1974600"/>
            <a:ext cx="457344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треб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офстанда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граммы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7812000" y="262080"/>
            <a:ext cx="838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3732-752E-4FCF-B660-00F758E514D8}" type="slidenum">
              <a:rPr b="0" lang="ru-RU" sz="1200" spc="-1" strike="noStrike">
                <a:solidFill>
                  <a:srgbClr val="6110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Рисунок 1" descr=""/>
          <p:cNvPicPr/>
          <p:nvPr/>
        </p:nvPicPr>
        <p:blipFill>
          <a:blip r:embed="rId6"/>
          <a:stretch/>
        </p:blipFill>
        <p:spPr>
          <a:xfrm>
            <a:off x="447840" y="1974960"/>
            <a:ext cx="37908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95200" y="441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06a"/>
                </a:solidFill>
                <a:latin typeface="Arial"/>
              </a:rPr>
              <a:t>Потребности (пример описания вакансии)</a:t>
            </a:r>
            <a:br>
              <a:rPr sz="3200"/>
            </a:br>
            <a:br>
              <a:rPr sz="3200"/>
            </a:br>
            <a:r>
              <a:rPr b="1" lang="ru-RU" sz="2000" spc="-1" strike="noStrike">
                <a:solidFill>
                  <a:srgbClr val="61106a"/>
                </a:solidFill>
                <a:latin typeface="Arial"/>
              </a:rPr>
              <a:t>Руководитель проектов (информационная безопасность)</a:t>
            </a:r>
            <a:endParaRPr b="0" lang="en-US" sz="20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87280" y="17744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бязанности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90000"/>
              </a:lnSpc>
              <a:spcBef>
                <a:spcPts val="374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астие в пресейле проекта (выявление потребностей заказчика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90000"/>
              </a:lnSpc>
              <a:spcBef>
                <a:spcPts val="374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пределение границ проекта, формулирование целей и результатов проект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90000"/>
              </a:lnSpc>
              <a:spcBef>
                <a:spcPts val="374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астие в разработке проектной документаци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90000"/>
              </a:lnSpc>
              <a:spcBef>
                <a:spcPts val="374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астие в проектах в роли системного архитектора (потенциальная возможность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90000"/>
              </a:lnSpc>
              <a:spcBef>
                <a:spcPts val="374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ординация работ реализаци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90000"/>
              </a:lnSpc>
              <a:spcBef>
                <a:spcPts val="374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правление командой исполнителей от 3-х человек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90000"/>
              </a:lnSpc>
              <a:spcBef>
                <a:spcPts val="374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влечение и взаимодействие с субподрядчик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Требования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90000"/>
              </a:lnSpc>
              <a:spcBef>
                <a:spcPts val="374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нание методологий по управлению проектами (PMBOK,IPMA, др.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90000"/>
              </a:lnSpc>
              <a:spcBef>
                <a:spcPts val="374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нимание стандартов информационной безопасности, законодательства в сфере защиты информаци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90000"/>
              </a:lnSpc>
              <a:spcBef>
                <a:spcPts val="374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нания технологий обеспечения информационной безопасности в целом, желательно знание продуктов Oracle Identity and Access Management Suit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90000"/>
              </a:lnSpc>
              <a:spcBef>
                <a:spcPts val="374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пыт участия в проектах внедрения систем информационной безопасности и аудита на соответствие ФЗ 152 (персональные данные), создания интеграционных шин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90000"/>
              </a:lnSpc>
              <a:spcBef>
                <a:spcPts val="374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нание методологии по разработке программного обеспечения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90000"/>
              </a:lnSpc>
              <a:spcBef>
                <a:spcPts val="374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пытный пользователь MS Office (Project, Power Point, Visio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7812000" y="262080"/>
            <a:ext cx="838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877B-EBB6-429D-8544-86FF3E199826}" type="slidenum">
              <a:rPr b="0" lang="ru-RU" sz="1200" spc="-1" strike="noStrike">
                <a:solidFill>
                  <a:srgbClr val="6110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67564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06a"/>
                </a:solidFill>
                <a:latin typeface="Arial"/>
              </a:rPr>
              <a:t>Пример вакансии</a:t>
            </a:r>
            <a:br>
              <a:rPr sz="3200"/>
            </a:br>
            <a:r>
              <a:rPr b="1" lang="ru-RU" sz="2400" spc="-1" strike="noStrike">
                <a:solidFill>
                  <a:srgbClr val="61106a"/>
                </a:solidFill>
                <a:latin typeface="Arial"/>
              </a:rPr>
              <a:t>Администратор информационной безопасности</a:t>
            </a:r>
            <a:endParaRPr b="0" lang="en-US" sz="24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87280" y="1375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язан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80000"/>
              </a:lnSpc>
              <a:spcBef>
                <a:spcPts val="300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ое обеспечение работоспособности средств информационной безопасности и защиты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80000"/>
              </a:lnSpc>
              <a:spcBef>
                <a:spcPts val="300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требований для безопасной настройки операционных систем, сетей и сервисов, анализ технических заданий на разработку и внедрение в части информационной безопас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80000"/>
              </a:lnSpc>
              <a:spcBef>
                <a:spcPts val="300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и контроль конфигурирования технических и программных средств в соответствии с требованиями И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80000"/>
              </a:lnSpc>
              <a:spcBef>
                <a:spcPts val="300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расследовании и ликвидации инцидентов И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80000"/>
              </a:lnSpc>
              <a:spcBef>
                <a:spcPts val="300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е доступа к информационным ресурсам и контроль соответствия присвоенных полномочий пользователям в соответствии с матрицами досту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80000"/>
              </a:lnSpc>
              <a:spcBef>
                <a:spcPts val="300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с поставщиками услуг в области информационной безопасности, формирование бюджета на средства технической защ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80000"/>
              </a:lnSpc>
              <a:spcBef>
                <a:spcPts val="300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тестирования и актуализация рисков информационной безопас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157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б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80000"/>
              </a:lnSpc>
              <a:spcBef>
                <a:spcPts val="300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работы от 5-ти лет в области информационной безопасности, образование высшее техн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80000"/>
              </a:lnSpc>
              <a:spcBef>
                <a:spcPts val="300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операционных систем Windows, Linux на уровне системного администра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80000"/>
              </a:lnSpc>
              <a:spcBef>
                <a:spcPts val="300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построения сетей на основе оборудования 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80000"/>
              </a:lnSpc>
              <a:spcBef>
                <a:spcPts val="300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работы со средами виртуализации Vm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80000"/>
              </a:lnSpc>
              <a:spcBef>
                <a:spcPts val="300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внедрения, настройки и эксплуатации систем мониторинга и анализа событий информационной безопасности (SIEM систем, Splunk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80000"/>
              </a:lnSpc>
              <a:spcBef>
                <a:spcPts val="300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имание инфраструктуры PKI и опыт работы с SSL сертификатами и ключ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80000"/>
              </a:lnSpc>
              <a:spcBef>
                <a:spcPts val="300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проведения сканирования систем, сетей и сервисов на уязвимости, своевременное устранение новых уязвим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80000"/>
              </a:lnSpc>
              <a:spcBef>
                <a:spcPts val="300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внедрения политик Segregation of duties, а также контроля за привилегированным доступ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80000"/>
              </a:lnSpc>
              <a:spcBef>
                <a:spcPts val="300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по выработке административных и технических решений по снижению рисков связанных с информационными технологиями и систем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80000"/>
              </a:lnSpc>
              <a:spcBef>
                <a:spcPts val="300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организации систем защиты от Ddos атак на веб при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80000"/>
              </a:lnSpc>
              <a:spcBef>
                <a:spcPts val="300"/>
              </a:spcBef>
              <a:buClr>
                <a:srgbClr val="9a5aa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английского языка на уровне чтения технической докум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7812000" y="262080"/>
            <a:ext cx="838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C049-BCA3-420F-8362-65CB5DCE5BBF}" type="slidenum">
              <a:rPr b="0" lang="ru-RU" sz="1200" spc="-1" strike="noStrike">
                <a:solidFill>
                  <a:srgbClr val="6110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06a"/>
                </a:solidFill>
                <a:latin typeface="Arial"/>
              </a:rPr>
              <a:t>Нам предстоит связать несвязуемое</a:t>
            </a: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0560" y="1974600"/>
            <a:ext cx="457344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треб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офстанда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граммы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7812000" y="262080"/>
            <a:ext cx="838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41AF-202A-494D-808D-188578766E58}" type="slidenum">
              <a:rPr b="0" lang="ru-RU" sz="1200" spc="-1" strike="noStrike">
                <a:solidFill>
                  <a:srgbClr val="6110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Рисунок 1" descr=""/>
          <p:cNvPicPr/>
          <p:nvPr/>
        </p:nvPicPr>
        <p:blipFill>
          <a:blip r:embed="rId6"/>
          <a:stretch/>
        </p:blipFill>
        <p:spPr>
          <a:xfrm>
            <a:off x="447840" y="1974960"/>
            <a:ext cx="37908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06a"/>
                </a:solidFill>
                <a:latin typeface="Arial"/>
              </a:rPr>
              <a:t>Два метода решения проблемы подготовки специалистов</a:t>
            </a:r>
            <a:endParaRPr b="0" lang="en-US" sz="3200" spc="-1" strike="noStrike">
              <a:solidFill>
                <a:srgbClr val="61106a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8280" y="1854000"/>
            <a:ext cx="357516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ТОР - пишет станд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УЗ - подгоняет под него програм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КАЗЧИК – удивляется результ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7812000" y="262080"/>
            <a:ext cx="838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DB9F-C7B0-4A2E-9DCB-92D0C0E52FA4}" type="slidenum">
              <a:rPr b="0" lang="ru-RU" sz="1200" spc="-1" strike="noStrike">
                <a:solidFill>
                  <a:srgbClr val="6110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5"/>
          <p:cNvSpPr/>
          <p:nvPr/>
        </p:nvSpPr>
        <p:spPr>
          <a:xfrm>
            <a:off x="4248000" y="1484280"/>
            <a:ext cx="0" cy="5040360"/>
          </a:xfrm>
          <a:prstGeom prst="line">
            <a:avLst/>
          </a:prstGeom>
          <a:ln w="9360">
            <a:solidFill>
              <a:srgbClr val="9856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Объект 2"/>
          <p:cNvSpPr/>
          <p:nvPr/>
        </p:nvSpPr>
        <p:spPr>
          <a:xfrm>
            <a:off x="4548240" y="1698480"/>
            <a:ext cx="45864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КАЗЧИК – формирует потребность в квалификации специалист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УЗ (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ведомственный???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готовит программу и учи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РЕГУЛЯТОР - ??? Допустим, прогнозирует, учитывает, осуществляет обратную связ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ятно 2 8"/>
          <p:cNvSpPr/>
          <p:nvPr/>
        </p:nvSpPr>
        <p:spPr>
          <a:xfrm>
            <a:off x="611280" y="5300640"/>
            <a:ext cx="3384360" cy="1238400"/>
          </a:xfrm>
          <a:prstGeom prst="irregularSeal2">
            <a:avLst/>
          </a:prstGeom>
          <a:solidFill>
            <a:srgbClr val="9a5aa4"/>
          </a:solidFill>
          <a:ln w="25560">
            <a:solidFill>
              <a:srgbClr val="7040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 ту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09:38:17Z</dcterms:created>
  <dc:creator>none</dc:creator>
  <dc:description/>
  <dc:language>en-US</dc:language>
  <cp:lastModifiedBy>Савельев Михаил</cp:lastModifiedBy>
  <dcterms:modified xsi:type="dcterms:W3CDTF">2015-03-26T08:33:14Z</dcterms:modified>
  <cp:revision>279</cp:revision>
  <dc:subject/>
  <dc:title>Слайд 1</dc:title>
</cp:coreProperties>
</file>