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AD5-EC3D-42BE-AED6-8FD96632C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E19B822-509B-4C0B-9F7A-68A61BDFE5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098D1C2-58B7-47C3-B31B-33F935B079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2FE3B97-728E-4CBA-A8D0-6FD0A0343C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A40832A-6F7E-4D1F-B3A7-90D9B16CDA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3EC-F334-4488-845D-3A1A925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8B7-F0C5-45DB-B2B8-8F46003D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0CB-C4EC-4729-A181-8451239A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077-CB2A-45A1-9F82-06B60471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046E-8D9E-4E6A-89F7-6676B26C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60D-630F-4C2E-AFFA-253F430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3E3C-DA8A-48EE-A527-546E234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6E1-36B8-463E-9E01-775E93D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394F-14A0-4CED-A435-E4D31FAD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9DDA-F8CA-43D6-9902-9F0E52AC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C68-BCE6-4096-9B5B-E3A2E46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E90-06BA-49BD-A731-715A198A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7FB7-2CD9-47EC-8CEF-3D9696DA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B8B-DBC9-4E0C-943F-F933BCC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C1B-8805-46BB-8050-D420FD8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6747-96FC-493F-A4DC-EDC1C484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F2EC-A7CA-4765-BBB6-D9153EB3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020-804C-4B46-AFDB-D4050994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90D-F922-4F35-AB97-F5EA72D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C45-8356-47B4-9B45-676A3CED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23F-3929-41F8-BAD0-C76190D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976-BC31-4E1C-8369-EDD7620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770-8F06-4A55-A2DF-4883A69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B99-9F6F-45E0-94EA-517C3D6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5EDD-B4B8-43D2-866D-BC5CC0A3BE7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69E-3980-486F-9480-ED34790C5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36C-7087-403B-BB79-E231D13FB2C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974-0AA9-471F-A67D-163295F39B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19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17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E66-F8EC-4CEE-998E-3FB1239F96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55640" y="1712160"/>
            <a:ext cx="774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«О профессиональных стандартах </a:t>
            </a:r>
            <a:br>
              <a:rPr sz="3000"/>
            </a:b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в области информационной безопасности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571680" y="4321080"/>
            <a:ext cx="78548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меститель Председателя Совета УМ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 образованию в обла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елов Евгений Борисов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27 марта 201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910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ист по информационно-аналитической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ятельности в сфере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9280" y="1368000"/>
            <a:ext cx="885672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вида профессиональной деятельност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здание и эксплуатация информационно-аналитических систем в защищенном исполнении, разработка моделей, методов и методик автоматизации информационно-аналитической деятельности, включая информационно-аналитический мониторин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 вида профессиональ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эффективности поддержки принятия решений за счет использования информационно-аналитических систем в защищенном исполнении в целях решения задач мониторинга, обработки и анализа информации, содержащей государственную тайну, или иной защищаемой информ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и квалификации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,7,8,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910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ист по безопасности телекоммуникационных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 и сетей (Специалист по ЗИ в ТК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856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вида профессиональной деятельности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, внедрение, эксплуатация и менеджмент средств и систем обеспечения информационной безопасности телекоммуникационных систем и сете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 вида профессиональной деятельности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защиты технических и информационных ресурсов телекоммуникационных систем и сетей в условиях существования угроз их информационной безопасност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и квалификации: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,6,7,8,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4920" y="3213000"/>
            <a:ext cx="91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ист по безопасности автоматизированных 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Специалист по ЗИ в А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79280" y="3933720"/>
            <a:ext cx="88567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вида профессиональной деятельности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 информации в автоматизированных системах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 вида профессиональной деятельности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 информации в автоматизированных системах, функционирующих в условиях существования угроз в информационной сфере и обладающих информационно-технологическими ресурсами, подлежащими защите, на всех стадиях жизненного цикла автоматизированных систем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и квалификации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6,7,8,9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9109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ист по технической защит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885672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вида профессиональной деятельност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е, разработка, внедрение и эксплуатация технических средств и методов защиты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 вида профессиональной деятельност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методов и средств технической защиты информации, направленных на предотвращение несанкционированного получения информации, циркулирующей на объекте информат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и квалификаци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6,7,8,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34920" y="3429000"/>
            <a:ext cx="91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ециалист по безопасности информационных технолог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79280" y="3933720"/>
            <a:ext cx="88567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вида профессиональной деятельност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, внедрение, эксплуатация, экспертиза и менеджмент средств и систем обеспечения информационной безопасности компьютеров и компьютерных сет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цель вида профессиональной деятельност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защиты информации в компьютерных системах и компьютерных сетях в условиях существования угроз их информационной безопас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и квалификации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6,7,8,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98D-A5D8-4FE8-B307-6F605945E3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A51C-9131-48C2-AF25-E5168AE534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73080" y="2549520"/>
            <a:ext cx="90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за вним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3E94-D921-4A67-BF7E-51828BCE2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0" y="73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макета профессионального стандар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214200" y="642960"/>
            <a:ext cx="87156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щие сведения о виде профессиональной деятельности (наименование вида проф. деятельности и его место в структуре ОКВЭ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Функциональная карта вида профессиональ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енные трудовые функции (ОТФ), входящий в состав вида проф. деятельности: трудовые функции, распределенные по квалификационным уровн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писание обобщенных трудовых функц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Описания каждой ОТФ по структур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ь ОТФ с общероссийскими классификаторам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я возможных должностей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 образованию и обучению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 практическому опыту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1. Описания трудовых функций, образующих ОТФ по структур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ые действия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ые умения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ые знания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ведения об организациях – разработчиках профессиональ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4D6-BDF4-4710-B657-60CB56DD72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24000" y="486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еречень профессиональных стандартов по группе занятий (профессий) «Специалисты в области информационной безопасности». Минтруд России - январь 2015 г.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Rectangle 137"/>
          <p:cNvGrpSpPr/>
          <p:nvPr/>
        </p:nvGrpSpPr>
        <p:grpSpPr>
          <a:xfrm>
            <a:off x="128520" y="1200240"/>
            <a:ext cx="8886960" cy="5670360"/>
            <a:chOff x="128520" y="1200240"/>
            <a:chExt cx="8886960" cy="5670360"/>
          </a:xfrm>
        </p:grpSpPr>
        <p:pic>
          <p:nvPicPr>
            <p:cNvPr id="178" name="Rectangle 137" descr=""/>
            <p:cNvPicPr/>
            <p:nvPr/>
          </p:nvPicPr>
          <p:blipFill>
            <a:blip r:embed="rId1"/>
            <a:stretch/>
          </p:blipFill>
          <p:spPr>
            <a:xfrm>
              <a:off x="128520" y="1200240"/>
              <a:ext cx="8886960" cy="56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2920" y="1214280"/>
              <a:ext cx="8858160" cy="56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14440" indent="-514440"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информационно-аналитической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деятельности в сфере безопасности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противодействию техническим разведкам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технической защите информации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безопасности телекоммуникационных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истем и сетей (Специалист по ЗИ в ТКСС)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безопасности автоматизированных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истем (Специалист по ЗИ в АС)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криптографической защите информации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безопасности информационных технолог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7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buClr>
                  <a:srgbClr val="ffffff"/>
                </a:buClr>
                <a:buFont typeface="Times New Roman"/>
                <a:buAutoNum type="arabicPeriod" startAt="8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Специалист по противодействию компьютерным атакам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ru-RU" sz="2500" spc="-1" strike="noStrike">
                  <a:solidFill>
                    <a:srgbClr val="ffffff"/>
                  </a:solidFill>
                  <a:latin typeface="Times New Roman"/>
                </a:rPr>
                <a:t>на критически важные объекты инфраструктуры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B9A-41E4-40FA-AA4F-A684C8BCF9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24000" y="4572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оответствие ПС уровням иерархии структуры объекта защи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8000" y="620640"/>
          <a:ext cx="8928000" cy="5886360"/>
        </p:xfrm>
        <a:graphic>
          <a:graphicData uri="http://schemas.openxmlformats.org/drawingml/2006/table">
            <a:tbl>
              <a:tblPr/>
              <a:tblGrid>
                <a:gridCol w="2108160"/>
                <a:gridCol w="3840120"/>
                <a:gridCol w="2979720"/>
              </a:tblGrid>
              <a:tr h="538200"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ерарх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щищаемый объект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истема, подсистема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ый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уровень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и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Объект ОПК, объект критического сегмента инф. инфраструктуры, объект органов гос. власти и управления, объект системо-образующего субъекта эконом. деятельност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ПДТР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8876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бернетическ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ур. управления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истема обработки информации и управле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информационно-аналит. деятельности в сфере безопасност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8082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информац. ресурсов и инф. поток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Автоматизирован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безопасности автоматизированных систем (Специалист по ЗИ в АС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15092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программных процессов и потоков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истема информационных технолог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БИТ; Специалист по противодействию комп. атакам на критически важные объекты инфраструктур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2560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передачи данны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Телекоммуникационн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безопасности ТКС и сетей (Специалист по ЗИ в ТКСС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52524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представления данны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Криптографическая сис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530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криптографической защите информ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87280"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ный уровен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Побочные каналы утечки информ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31320" rIns="31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62b"/>
                          </a:solidFill>
                          <a:latin typeface="Times New Roman"/>
                          <a:ea typeface="Times New Roman"/>
                        </a:rPr>
                        <a:t>Специалист по ТЗ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204-6A73-48BF-8760-8407F0D593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620640"/>
          <a:ext cx="8785440" cy="573408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305080"/>
                <a:gridCol w="2087640"/>
              </a:tblGrid>
              <a:tr h="532800">
                <a:tc gridSpan="4"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ппы методов по разработке П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40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ый анализ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о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ир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ир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а по З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тный мет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240">
                <a:tc>
                  <a:txBody>
                    <a:bodyPr lIns="64080" rIns="64080" tIns="0" bIns="0" anchor="t">
                      <a:noAutofit/>
                    </a:bodyPr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онометраж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функциональных обязанностей сотрудник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отзывов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выпускни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нормативных документов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законов, приказов, инструкций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литературы, НИР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функциональных классификаторов, функциональных систе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иров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документов, содержащих концепции и прогнозы в области теории и практики обеспечения ИБ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 вероятных изменений в профессиональной деятельности специалиста по З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тная оценка результатов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indent="179280" algn="just"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тная проверка результа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Овал 1"/>
          <p:cNvSpPr/>
          <p:nvPr/>
        </p:nvSpPr>
        <p:spPr>
          <a:xfrm>
            <a:off x="738360" y="1268280"/>
            <a:ext cx="7578720" cy="507708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66A-AA02-4529-BEA2-25F1D82EAB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-22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повая схема этапов решения задач в области З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мках профессиональной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Rectangle 137"/>
          <p:cNvGrpSpPr/>
          <p:nvPr/>
        </p:nvGrpSpPr>
        <p:grpSpPr>
          <a:xfrm>
            <a:off x="4651200" y="1390680"/>
            <a:ext cx="3389400" cy="1047600"/>
            <a:chOff x="4651200" y="1390680"/>
            <a:chExt cx="3389400" cy="1047600"/>
          </a:xfrm>
        </p:grpSpPr>
        <p:pic>
          <p:nvPicPr>
            <p:cNvPr id="189" name="Rectangle 137" descr=""/>
            <p:cNvPicPr/>
            <p:nvPr/>
          </p:nvPicPr>
          <p:blipFill>
            <a:blip r:embed="rId1"/>
            <a:stretch/>
          </p:blipFill>
          <p:spPr>
            <a:xfrm>
              <a:off x="4651200" y="1390680"/>
              <a:ext cx="3389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665600" y="1401840"/>
              <a:ext cx="336240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Сбор и анализ данных дл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проектирования системы ЗИ (СЗИ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объекта информатизации (ОИ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Rectangle 137"/>
          <p:cNvGrpSpPr/>
          <p:nvPr/>
        </p:nvGrpSpPr>
        <p:grpSpPr>
          <a:xfrm>
            <a:off x="5516640" y="2560680"/>
            <a:ext cx="2957400" cy="957240"/>
            <a:chOff x="5516640" y="2560680"/>
            <a:chExt cx="2957400" cy="957240"/>
          </a:xfrm>
        </p:grpSpPr>
        <p:pic>
          <p:nvPicPr>
            <p:cNvPr id="192" name="Rectangle 137" descr=""/>
            <p:cNvPicPr/>
            <p:nvPr/>
          </p:nvPicPr>
          <p:blipFill>
            <a:blip r:embed="rId2"/>
            <a:stretch/>
          </p:blipFill>
          <p:spPr>
            <a:xfrm>
              <a:off x="5516640" y="2560680"/>
              <a:ext cx="29574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530680" y="2576520"/>
              <a:ext cx="29289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Аналитическое обоснование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необходимости создания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СЗИ О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Rectangle 137"/>
          <p:cNvGrpSpPr/>
          <p:nvPr/>
        </p:nvGrpSpPr>
        <p:grpSpPr>
          <a:xfrm>
            <a:off x="5748480" y="3700440"/>
            <a:ext cx="2981160" cy="1000080"/>
            <a:chOff x="5748480" y="3700440"/>
            <a:chExt cx="2981160" cy="1000080"/>
          </a:xfrm>
        </p:grpSpPr>
        <p:pic>
          <p:nvPicPr>
            <p:cNvPr id="195" name="Rectangle 137" descr=""/>
            <p:cNvPicPr/>
            <p:nvPr/>
          </p:nvPicPr>
          <p:blipFill>
            <a:blip r:embed="rId3"/>
            <a:stretch/>
          </p:blipFill>
          <p:spPr>
            <a:xfrm>
              <a:off x="5748480" y="3700440"/>
              <a:ext cx="2981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765760" y="3716280"/>
              <a:ext cx="29480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азработка ТЗ на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создание СЗИ ОИ,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согласование проекта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Rectangle 137"/>
          <p:cNvGrpSpPr/>
          <p:nvPr/>
        </p:nvGrpSpPr>
        <p:grpSpPr>
          <a:xfrm>
            <a:off x="6072120" y="4853160"/>
            <a:ext cx="2938680" cy="517320"/>
            <a:chOff x="6072120" y="4853160"/>
            <a:chExt cx="2938680" cy="517320"/>
          </a:xfrm>
        </p:grpSpPr>
        <p:pic>
          <p:nvPicPr>
            <p:cNvPr id="198" name="Rectangle 137" descr=""/>
            <p:cNvPicPr/>
            <p:nvPr/>
          </p:nvPicPr>
          <p:blipFill>
            <a:blip r:embed="rId4"/>
            <a:stretch/>
          </p:blipFill>
          <p:spPr>
            <a:xfrm>
              <a:off x="6072120" y="4853160"/>
              <a:ext cx="2938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084720" y="4869000"/>
              <a:ext cx="2909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Проектирование СЗИ О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Rectangle 137"/>
          <p:cNvGrpSpPr/>
          <p:nvPr/>
        </p:nvGrpSpPr>
        <p:grpSpPr>
          <a:xfrm>
            <a:off x="1122480" y="4998960"/>
            <a:ext cx="2962080" cy="963720"/>
            <a:chOff x="1122480" y="4998960"/>
            <a:chExt cx="2962080" cy="963720"/>
          </a:xfrm>
        </p:grpSpPr>
        <p:pic>
          <p:nvPicPr>
            <p:cNvPr id="201" name="Rectangle 137" descr=""/>
            <p:cNvPicPr/>
            <p:nvPr/>
          </p:nvPicPr>
          <p:blipFill>
            <a:blip r:embed="rId5"/>
            <a:stretch/>
          </p:blipFill>
          <p:spPr>
            <a:xfrm>
              <a:off x="1122480" y="4998960"/>
              <a:ext cx="29620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139760" y="5013360"/>
              <a:ext cx="292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</a:rPr>
                <a:t>Установка, монтаж, настройка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</a:rPr>
                <a:t>и испытания технич., программных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</a:rPr>
                <a:t>и программно-технических средств З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Rectangle 137"/>
          <p:cNvGrpSpPr/>
          <p:nvPr/>
        </p:nvGrpSpPr>
        <p:grpSpPr>
          <a:xfrm>
            <a:off x="311040" y="3919680"/>
            <a:ext cx="2992680" cy="963360"/>
            <a:chOff x="311040" y="3919680"/>
            <a:chExt cx="2992680" cy="963360"/>
          </a:xfrm>
        </p:grpSpPr>
        <p:pic>
          <p:nvPicPr>
            <p:cNvPr id="204" name="Rectangle 137" descr=""/>
            <p:cNvPicPr/>
            <p:nvPr/>
          </p:nvPicPr>
          <p:blipFill>
            <a:blip r:embed="rId6"/>
            <a:stretch/>
          </p:blipFill>
          <p:spPr>
            <a:xfrm>
              <a:off x="311040" y="3919680"/>
              <a:ext cx="2992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24000" y="3933720"/>
              <a:ext cx="29638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азработка организационно-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аспорядительных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док-тов по ЗИ на О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Rectangle 137"/>
          <p:cNvGrpSpPr/>
          <p:nvPr/>
        </p:nvGrpSpPr>
        <p:grpSpPr>
          <a:xfrm>
            <a:off x="139680" y="3024360"/>
            <a:ext cx="3328920" cy="779400"/>
            <a:chOff x="139680" y="3024360"/>
            <a:chExt cx="3328920" cy="779400"/>
          </a:xfrm>
        </p:grpSpPr>
        <p:pic>
          <p:nvPicPr>
            <p:cNvPr id="207" name="Rectangle 137" descr=""/>
            <p:cNvPicPr/>
            <p:nvPr/>
          </p:nvPicPr>
          <p:blipFill>
            <a:blip r:embed="rId7"/>
            <a:stretch/>
          </p:blipFill>
          <p:spPr>
            <a:xfrm>
              <a:off x="139680" y="3024360"/>
              <a:ext cx="33289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58760" y="3040200"/>
              <a:ext cx="32940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Аттестация ОИ по требованиям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безопасности информаци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Rectangle 137"/>
          <p:cNvGrpSpPr/>
          <p:nvPr/>
        </p:nvGrpSpPr>
        <p:grpSpPr>
          <a:xfrm>
            <a:off x="573120" y="2262240"/>
            <a:ext cx="3151080" cy="609480"/>
            <a:chOff x="573120" y="2262240"/>
            <a:chExt cx="3151080" cy="609480"/>
          </a:xfrm>
        </p:grpSpPr>
        <p:pic>
          <p:nvPicPr>
            <p:cNvPr id="210" name="Rectangle 137" descr=""/>
            <p:cNvPicPr/>
            <p:nvPr/>
          </p:nvPicPr>
          <p:blipFill>
            <a:blip r:embed="rId8"/>
            <a:stretch/>
          </p:blipFill>
          <p:spPr>
            <a:xfrm>
              <a:off x="573120" y="2262240"/>
              <a:ext cx="3151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88960" y="2276640"/>
              <a:ext cx="31194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Эксплуатация, обслуживание,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емонт и управление СЗИ О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137"/>
          <p:cNvGrpSpPr/>
          <p:nvPr/>
        </p:nvGrpSpPr>
        <p:grpSpPr>
          <a:xfrm>
            <a:off x="5742000" y="5467320"/>
            <a:ext cx="2957400" cy="714240"/>
            <a:chOff x="5742000" y="5467320"/>
            <a:chExt cx="2957400" cy="714240"/>
          </a:xfrm>
        </p:grpSpPr>
        <p:pic>
          <p:nvPicPr>
            <p:cNvPr id="213" name="Rectangle 137" descr=""/>
            <p:cNvPicPr/>
            <p:nvPr/>
          </p:nvPicPr>
          <p:blipFill>
            <a:blip r:embed="rId9"/>
            <a:stretch/>
          </p:blipFill>
          <p:spPr>
            <a:xfrm>
              <a:off x="5742000" y="5467320"/>
              <a:ext cx="295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756400" y="5479920"/>
              <a:ext cx="2927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еализация проекта,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разработка СЗ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137"/>
          <p:cNvGrpSpPr/>
          <p:nvPr/>
        </p:nvGrpSpPr>
        <p:grpSpPr>
          <a:xfrm>
            <a:off x="2614680" y="6083280"/>
            <a:ext cx="2957400" cy="635040"/>
            <a:chOff x="2614680" y="6083280"/>
            <a:chExt cx="2957400" cy="635040"/>
          </a:xfrm>
        </p:grpSpPr>
        <p:pic>
          <p:nvPicPr>
            <p:cNvPr id="216" name="Rectangle 137" descr=""/>
            <p:cNvPicPr/>
            <p:nvPr/>
          </p:nvPicPr>
          <p:blipFill>
            <a:blip r:embed="rId10"/>
            <a:stretch/>
          </p:blipFill>
          <p:spPr>
            <a:xfrm>
              <a:off x="2614680" y="6083280"/>
              <a:ext cx="2957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630520" y="6099120"/>
              <a:ext cx="29289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Производство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средств З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Rectangle 137"/>
          <p:cNvGrpSpPr/>
          <p:nvPr/>
        </p:nvGrpSpPr>
        <p:grpSpPr>
          <a:xfrm>
            <a:off x="1152360" y="1755720"/>
            <a:ext cx="2286000" cy="414360"/>
            <a:chOff x="1152360" y="1755720"/>
            <a:chExt cx="2286000" cy="414360"/>
          </a:xfrm>
        </p:grpSpPr>
        <p:pic>
          <p:nvPicPr>
            <p:cNvPr id="219" name="Rectangle 137" descr=""/>
            <p:cNvPicPr/>
            <p:nvPr/>
          </p:nvPicPr>
          <p:blipFill>
            <a:blip r:embed="rId11"/>
            <a:stretch/>
          </p:blipFill>
          <p:spPr>
            <a:xfrm>
              <a:off x="1152360" y="1755720"/>
              <a:ext cx="2286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166760" y="1773360"/>
              <a:ext cx="2252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imes New Roman"/>
                </a:rPr>
                <a:t>Утилизация СЗИ ОИ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Rectangle 137"/>
          <p:cNvGrpSpPr/>
          <p:nvPr/>
        </p:nvGrpSpPr>
        <p:grpSpPr>
          <a:xfrm>
            <a:off x="1627200" y="792000"/>
            <a:ext cx="2957400" cy="903600"/>
            <a:chOff x="1627200" y="792000"/>
            <a:chExt cx="2957400" cy="903600"/>
          </a:xfrm>
        </p:grpSpPr>
        <p:pic>
          <p:nvPicPr>
            <p:cNvPr id="222" name="Rectangle 137" descr=""/>
            <p:cNvPicPr/>
            <p:nvPr/>
          </p:nvPicPr>
          <p:blipFill>
            <a:blip r:embed="rId12"/>
            <a:stretch/>
          </p:blipFill>
          <p:spPr>
            <a:xfrm>
              <a:off x="1627200" y="792000"/>
              <a:ext cx="2957400" cy="9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641600" y="806400"/>
              <a:ext cx="29304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Разработка моделей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защищаемого объекта и угроз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813-F26B-4E45-984B-727E01399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-525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повая схема этапов решения задач в области З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мках профессиональной деятель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Rectangle 137"/>
          <p:cNvGrpSpPr/>
          <p:nvPr/>
        </p:nvGrpSpPr>
        <p:grpSpPr>
          <a:xfrm>
            <a:off x="281160" y="1109520"/>
            <a:ext cx="2651040" cy="1255680"/>
            <a:chOff x="281160" y="1109520"/>
            <a:chExt cx="2651040" cy="1255680"/>
          </a:xfrm>
        </p:grpSpPr>
        <p:pic>
          <p:nvPicPr>
            <p:cNvPr id="227" name="Rectangle 137" descr=""/>
            <p:cNvPicPr/>
            <p:nvPr/>
          </p:nvPicPr>
          <p:blipFill>
            <a:blip r:embed="rId1"/>
            <a:stretch/>
          </p:blipFill>
          <p:spPr>
            <a:xfrm>
              <a:off x="281160" y="1109520"/>
              <a:ext cx="2651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91960" y="1125360"/>
              <a:ext cx="26244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азработка моделей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защищаемого объекта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угро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Rectangle 137"/>
          <p:cNvGrpSpPr/>
          <p:nvPr/>
        </p:nvGrpSpPr>
        <p:grpSpPr>
          <a:xfrm>
            <a:off x="3133800" y="1109520"/>
            <a:ext cx="3035160" cy="1255680"/>
            <a:chOff x="3133800" y="1109520"/>
            <a:chExt cx="3035160" cy="1255680"/>
          </a:xfrm>
        </p:grpSpPr>
        <p:pic>
          <p:nvPicPr>
            <p:cNvPr id="230" name="Rectangle 137" descr=""/>
            <p:cNvPicPr/>
            <p:nvPr/>
          </p:nvPicPr>
          <p:blipFill>
            <a:blip r:embed="rId2"/>
            <a:stretch/>
          </p:blipFill>
          <p:spPr>
            <a:xfrm>
              <a:off x="3133800" y="1109520"/>
              <a:ext cx="3035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147840" y="1125360"/>
              <a:ext cx="30085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Сбор и анализ данных дл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проектирования системы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защиты информации (СЗИ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объекта информатизации (ОИ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Rectangle 137"/>
          <p:cNvGrpSpPr/>
          <p:nvPr/>
        </p:nvGrpSpPr>
        <p:grpSpPr>
          <a:xfrm>
            <a:off x="6284880" y="1109520"/>
            <a:ext cx="2651040" cy="1255680"/>
            <a:chOff x="6284880" y="1109520"/>
            <a:chExt cx="2651040" cy="1255680"/>
          </a:xfrm>
        </p:grpSpPr>
        <p:pic>
          <p:nvPicPr>
            <p:cNvPr id="233" name="Rectangle 137" descr=""/>
            <p:cNvPicPr/>
            <p:nvPr/>
          </p:nvPicPr>
          <p:blipFill>
            <a:blip r:embed="rId3"/>
            <a:stretch/>
          </p:blipFill>
          <p:spPr>
            <a:xfrm>
              <a:off x="6284880" y="1109520"/>
              <a:ext cx="2651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300720" y="1125360"/>
              <a:ext cx="262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Аналитическое обоснование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необходимости создани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СЗИ О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Rectangle 137"/>
          <p:cNvGrpSpPr/>
          <p:nvPr/>
        </p:nvGrpSpPr>
        <p:grpSpPr>
          <a:xfrm>
            <a:off x="311040" y="2548080"/>
            <a:ext cx="2651400" cy="1255680"/>
            <a:chOff x="311040" y="2548080"/>
            <a:chExt cx="2651400" cy="1255680"/>
          </a:xfrm>
        </p:grpSpPr>
        <p:pic>
          <p:nvPicPr>
            <p:cNvPr id="236" name="Rectangle 137" descr=""/>
            <p:cNvPicPr/>
            <p:nvPr/>
          </p:nvPicPr>
          <p:blipFill>
            <a:blip r:embed="rId4"/>
            <a:stretch/>
          </p:blipFill>
          <p:spPr>
            <a:xfrm>
              <a:off x="311040" y="2548080"/>
              <a:ext cx="2651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24000" y="2565360"/>
              <a:ext cx="2622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азработка ТЗ на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здание СЗИ ОИ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гласование проек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Rectangle 137"/>
          <p:cNvGrpSpPr/>
          <p:nvPr/>
        </p:nvGrpSpPr>
        <p:grpSpPr>
          <a:xfrm>
            <a:off x="3133800" y="2548080"/>
            <a:ext cx="3035160" cy="1255680"/>
            <a:chOff x="3133800" y="2548080"/>
            <a:chExt cx="3035160" cy="1255680"/>
          </a:xfrm>
        </p:grpSpPr>
        <p:pic>
          <p:nvPicPr>
            <p:cNvPr id="239" name="Rectangle 137" descr=""/>
            <p:cNvPicPr/>
            <p:nvPr/>
          </p:nvPicPr>
          <p:blipFill>
            <a:blip r:embed="rId5"/>
            <a:stretch/>
          </p:blipFill>
          <p:spPr>
            <a:xfrm>
              <a:off x="3133800" y="2548080"/>
              <a:ext cx="3035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147840" y="2565360"/>
              <a:ext cx="30085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изводство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редств З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Rectangle 137"/>
          <p:cNvGrpSpPr/>
          <p:nvPr/>
        </p:nvGrpSpPr>
        <p:grpSpPr>
          <a:xfrm>
            <a:off x="6284880" y="2548080"/>
            <a:ext cx="2651040" cy="1255680"/>
            <a:chOff x="6284880" y="2548080"/>
            <a:chExt cx="2651040" cy="1255680"/>
          </a:xfrm>
        </p:grpSpPr>
        <p:pic>
          <p:nvPicPr>
            <p:cNvPr id="242" name="Rectangle 137" descr=""/>
            <p:cNvPicPr/>
            <p:nvPr/>
          </p:nvPicPr>
          <p:blipFill>
            <a:blip r:embed="rId6"/>
            <a:stretch/>
          </p:blipFill>
          <p:spPr>
            <a:xfrm>
              <a:off x="6284880" y="2548080"/>
              <a:ext cx="26510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300720" y="2565360"/>
              <a:ext cx="262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ализация проекта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азработка СЗ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Rectangle 137"/>
          <p:cNvGrpSpPr/>
          <p:nvPr/>
        </p:nvGrpSpPr>
        <p:grpSpPr>
          <a:xfrm>
            <a:off x="3133800" y="4059360"/>
            <a:ext cx="3017880" cy="1255680"/>
            <a:chOff x="3133800" y="4059360"/>
            <a:chExt cx="3017880" cy="1255680"/>
          </a:xfrm>
        </p:grpSpPr>
        <p:pic>
          <p:nvPicPr>
            <p:cNvPr id="245" name="Rectangle 137" descr=""/>
            <p:cNvPicPr/>
            <p:nvPr/>
          </p:nvPicPr>
          <p:blipFill>
            <a:blip r:embed="rId7"/>
            <a:stretch/>
          </p:blipFill>
          <p:spPr>
            <a:xfrm>
              <a:off x="3133800" y="4059360"/>
              <a:ext cx="3017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47840" y="4076640"/>
              <a:ext cx="29862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Установка, монтаж, настройк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и испытания технических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программных и программно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технических средств З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Rectangle 137"/>
          <p:cNvGrpSpPr/>
          <p:nvPr/>
        </p:nvGrpSpPr>
        <p:grpSpPr>
          <a:xfrm>
            <a:off x="6284880" y="4059360"/>
            <a:ext cx="2683080" cy="1255680"/>
            <a:chOff x="6284880" y="4059360"/>
            <a:chExt cx="2683080" cy="1255680"/>
          </a:xfrm>
        </p:grpSpPr>
        <p:pic>
          <p:nvPicPr>
            <p:cNvPr id="248" name="Rectangle 137" descr=""/>
            <p:cNvPicPr/>
            <p:nvPr/>
          </p:nvPicPr>
          <p:blipFill>
            <a:blip r:embed="rId8"/>
            <a:stretch/>
          </p:blipFill>
          <p:spPr>
            <a:xfrm>
              <a:off x="6284880" y="4059360"/>
              <a:ext cx="2683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300720" y="4076640"/>
              <a:ext cx="2652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Разработка организационно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распорядительных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док-тов по ЗИ на О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Rectangle 137"/>
          <p:cNvGrpSpPr/>
          <p:nvPr/>
        </p:nvGrpSpPr>
        <p:grpSpPr>
          <a:xfrm>
            <a:off x="311040" y="5505480"/>
            <a:ext cx="2651400" cy="1255680"/>
            <a:chOff x="311040" y="5505480"/>
            <a:chExt cx="2651400" cy="1255680"/>
          </a:xfrm>
        </p:grpSpPr>
        <p:pic>
          <p:nvPicPr>
            <p:cNvPr id="251" name="Rectangle 137" descr=""/>
            <p:cNvPicPr/>
            <p:nvPr/>
          </p:nvPicPr>
          <p:blipFill>
            <a:blip r:embed="rId9"/>
            <a:stretch/>
          </p:blipFill>
          <p:spPr>
            <a:xfrm>
              <a:off x="311040" y="5505480"/>
              <a:ext cx="2651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24000" y="5518080"/>
              <a:ext cx="2622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тилизация СЗИ О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Rectangle 137"/>
          <p:cNvGrpSpPr/>
          <p:nvPr/>
        </p:nvGrpSpPr>
        <p:grpSpPr>
          <a:xfrm>
            <a:off x="6284880" y="5462640"/>
            <a:ext cx="2683080" cy="1255680"/>
            <a:chOff x="6284880" y="5462640"/>
            <a:chExt cx="2683080" cy="1255680"/>
          </a:xfrm>
        </p:grpSpPr>
        <p:pic>
          <p:nvPicPr>
            <p:cNvPr id="254" name="Rectangle 137" descr=""/>
            <p:cNvPicPr/>
            <p:nvPr/>
          </p:nvPicPr>
          <p:blipFill>
            <a:blip r:embed="rId10"/>
            <a:stretch/>
          </p:blipFill>
          <p:spPr>
            <a:xfrm>
              <a:off x="6284880" y="5462640"/>
              <a:ext cx="2683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300720" y="5477040"/>
              <a:ext cx="26528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ттестация ОИ по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ребованиям безопасност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нформа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Rectangle 137"/>
          <p:cNvGrpSpPr/>
          <p:nvPr/>
        </p:nvGrpSpPr>
        <p:grpSpPr>
          <a:xfrm>
            <a:off x="3133800" y="5505480"/>
            <a:ext cx="3017880" cy="1255680"/>
            <a:chOff x="3133800" y="5505480"/>
            <a:chExt cx="3017880" cy="1255680"/>
          </a:xfrm>
        </p:grpSpPr>
        <p:pic>
          <p:nvPicPr>
            <p:cNvPr id="257" name="Rectangle 137" descr=""/>
            <p:cNvPicPr/>
            <p:nvPr/>
          </p:nvPicPr>
          <p:blipFill>
            <a:blip r:embed="rId11"/>
            <a:stretch/>
          </p:blipFill>
          <p:spPr>
            <a:xfrm>
              <a:off x="3133800" y="5505480"/>
              <a:ext cx="3017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147840" y="5521320"/>
              <a:ext cx="29862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Эксплуатация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обслуживание, ремон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и управление СЗИ О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Выгнутая вверх стрелка 2"/>
          <p:cNvSpPr/>
          <p:nvPr/>
        </p:nvSpPr>
        <p:spPr>
          <a:xfrm>
            <a:off x="1403280" y="603360"/>
            <a:ext cx="3086280" cy="738000"/>
          </a:xfrm>
          <a:custGeom>
            <a:avLst/>
            <a:gdLst>
              <a:gd name="textAreaLeft" fmla="*/ 702360 w 3086280"/>
              <a:gd name="textAreaRight" fmla="*/ 2291760 w 3086280"/>
              <a:gd name="textAreaTop" fmla="*/ 98640 h 738000"/>
              <a:gd name="textAreaBottom" fmla="*/ 639360 h 73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2" hR="21600" stAng="10800000" swAng="5400000"/>
                <a:lnTo>
                  <a:pt x="11123" y="0"/>
                </a:lnTo>
                <a:arcTo wR="9832" hR="21600" stAng="-5400000" swAng="3626109"/>
                <a:lnTo>
                  <a:pt x="21288" y="16200"/>
                </a:lnTo>
                <a:lnTo>
                  <a:pt x="20309" y="21600"/>
                </a:lnTo>
                <a:lnTo>
                  <a:pt x="18705" y="16200"/>
                </a:lnTo>
                <a:lnTo>
                  <a:pt x="19351" y="16200"/>
                </a:lnTo>
                <a:arcTo wR="9832" hR="21600" stAng="-1773891" swAng="-3523183"/>
                <a:lnTo>
                  <a:pt x="10477" y="47"/>
                </a:lnTo>
                <a:arcTo wR="9832" hR="21600" stAng="-5502926" swAng="-5297074"/>
                <a:close/>
              </a:path>
              <a:path fill="darkenLess" w="21600" h="21600">
                <a:moveTo>
                  <a:pt x="0" y="21600"/>
                </a:moveTo>
                <a:arcTo wR="9832" hR="21600" stAng="10800000" swAng="5400000"/>
                <a:lnTo>
                  <a:pt x="9832" y="0"/>
                </a:lnTo>
                <a:arcTo wR="9832" hR="21600" stAng="-5400000" swAng="102926"/>
                <a:lnTo>
                  <a:pt x="10477" y="47"/>
                </a:lnTo>
                <a:arcTo wR="9832" hR="21600" stAng="-5502926" swAng="-5297074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Выгнутая вверх стрелка 38"/>
          <p:cNvSpPr/>
          <p:nvPr/>
        </p:nvSpPr>
        <p:spPr>
          <a:xfrm>
            <a:off x="4870440" y="620640"/>
            <a:ext cx="3086280" cy="738360"/>
          </a:xfrm>
          <a:custGeom>
            <a:avLst/>
            <a:gdLst>
              <a:gd name="textAreaLeft" fmla="*/ 702360 w 3086280"/>
              <a:gd name="textAreaRight" fmla="*/ 2291760 w 3086280"/>
              <a:gd name="textAreaTop" fmla="*/ 98640 h 738360"/>
              <a:gd name="textAreaBottom" fmla="*/ 639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2" hR="21600" stAng="10800000" swAng="5400000"/>
                <a:lnTo>
                  <a:pt x="11123" y="0"/>
                </a:lnTo>
                <a:arcTo wR="9832" hR="21600" stAng="-5400000" swAng="3626109"/>
                <a:lnTo>
                  <a:pt x="21288" y="16200"/>
                </a:lnTo>
                <a:lnTo>
                  <a:pt x="20309" y="21600"/>
                </a:lnTo>
                <a:lnTo>
                  <a:pt x="18705" y="16200"/>
                </a:lnTo>
                <a:lnTo>
                  <a:pt x="19351" y="16200"/>
                </a:lnTo>
                <a:arcTo wR="9832" hR="21600" stAng="-1773891" swAng="-3523183"/>
                <a:lnTo>
                  <a:pt x="10477" y="47"/>
                </a:lnTo>
                <a:arcTo wR="9832" hR="21600" stAng="-5502926" swAng="-5297074"/>
                <a:close/>
              </a:path>
              <a:path fill="darkenLess" w="21600" h="21600">
                <a:moveTo>
                  <a:pt x="0" y="21600"/>
                </a:moveTo>
                <a:arcTo wR="9832" hR="21600" stAng="10800000" swAng="5400000"/>
                <a:lnTo>
                  <a:pt x="9832" y="0"/>
                </a:lnTo>
                <a:arcTo wR="9832" hR="21600" stAng="-5400000" swAng="102926"/>
                <a:lnTo>
                  <a:pt x="10477" y="47"/>
                </a:lnTo>
                <a:arcTo wR="9832" hR="21600" stAng="-5502926" swAng="-5297074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Выгнутая вправо стрелка 5"/>
          <p:cNvSpPr/>
          <p:nvPr/>
        </p:nvSpPr>
        <p:spPr>
          <a:xfrm>
            <a:off x="8424720" y="1484280"/>
            <a:ext cx="611280" cy="2305080"/>
          </a:xfrm>
          <a:custGeom>
            <a:avLst/>
            <a:gdLst>
              <a:gd name="textAreaLeft" fmla="*/ 81720 w 611280"/>
              <a:gd name="textAreaRight" fmla="*/ 529560 w 611280"/>
              <a:gd name="textAreaTop" fmla="*/ 518760 h 2305080"/>
              <a:gd name="textAreaBottom" fmla="*/ 170964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26" stAng="-5400000" swAng="5400000"/>
                <a:lnTo>
                  <a:pt x="21600" y="11158"/>
                </a:lnTo>
                <a:arcTo wR="21600" hR="9726" stAng="0" swAng="3610147"/>
                <a:lnTo>
                  <a:pt x="5400" y="21291"/>
                </a:lnTo>
                <a:lnTo>
                  <a:pt x="0" y="20168"/>
                </a:lnTo>
                <a:lnTo>
                  <a:pt x="5400" y="18427"/>
                </a:lnTo>
                <a:lnTo>
                  <a:pt x="5400" y="19143"/>
                </a:lnTo>
                <a:arcTo wR="21600" hR="9726" stAng="3610147" swAng="-3495924"/>
                <a:lnTo>
                  <a:pt x="21541" y="10442"/>
                </a:lnTo>
                <a:arcTo wR="21600" hR="9726" stAng="-114223" swAng="-5285777"/>
                <a:close/>
              </a:path>
              <a:path fill="darkenLess" w="21600" h="21600">
                <a:moveTo>
                  <a:pt x="0" y="0"/>
                </a:moveTo>
                <a:arcTo wR="21600" hR="9726" stAng="-5400000" swAng="5400000"/>
                <a:lnTo>
                  <a:pt x="21600" y="11158"/>
                </a:lnTo>
                <a:arcTo wR="21600" hR="9726" stAng="0" swAng="-114223"/>
                <a:lnTo>
                  <a:pt x="21541" y="10442"/>
                </a:lnTo>
                <a:arcTo wR="21600" hR="9726" stAng="-114223" swAng="-5285777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Выгнутая вправо стрелка 39"/>
          <p:cNvSpPr/>
          <p:nvPr/>
        </p:nvSpPr>
        <p:spPr>
          <a:xfrm>
            <a:off x="8604360" y="4221000"/>
            <a:ext cx="463320" cy="2303640"/>
          </a:xfrm>
          <a:custGeom>
            <a:avLst/>
            <a:gdLst>
              <a:gd name="textAreaLeft" fmla="*/ 61920 w 463320"/>
              <a:gd name="textAreaRight" fmla="*/ 401400 w 463320"/>
              <a:gd name="textAreaTop" fmla="*/ 532440 h 2303640"/>
              <a:gd name="textAreaBottom" fmla="*/ 171324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85" stAng="-5400000" swAng="5400000"/>
                <a:lnTo>
                  <a:pt x="21600" y="11072"/>
                </a:lnTo>
                <a:arcTo wR="21600" hR="9985" stAng="0" swAng="3648874"/>
                <a:lnTo>
                  <a:pt x="5400" y="21283"/>
                </a:lnTo>
                <a:lnTo>
                  <a:pt x="0" y="20514"/>
                </a:lnTo>
                <a:lnTo>
                  <a:pt x="5400" y="19110"/>
                </a:lnTo>
                <a:lnTo>
                  <a:pt x="5400" y="19653"/>
                </a:lnTo>
                <a:arcTo wR="21600" hR="9985" stAng="3648874" swAng="-3562263"/>
                <a:lnTo>
                  <a:pt x="21568" y="10529"/>
                </a:lnTo>
                <a:arcTo wR="21600" hR="9985" stAng="-86611" swAng="-5313389"/>
                <a:close/>
              </a:path>
              <a:path fill="darkenLess" w="21600" h="21600">
                <a:moveTo>
                  <a:pt x="0" y="0"/>
                </a:moveTo>
                <a:arcTo wR="21600" hR="9985" stAng="-5400000" swAng="5400000"/>
                <a:lnTo>
                  <a:pt x="21600" y="11072"/>
                </a:lnTo>
                <a:arcTo wR="21600" hR="9985" stAng="0" swAng="-86611"/>
                <a:lnTo>
                  <a:pt x="21568" y="10529"/>
                </a:lnTo>
                <a:arcTo wR="21600" hR="9985" stAng="-86611" swAng="-5313389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Штриховая стрелка вправо 7"/>
          <p:cNvSpPr/>
          <p:nvPr/>
        </p:nvSpPr>
        <p:spPr>
          <a:xfrm flipH="1">
            <a:off x="5137200" y="2583000"/>
            <a:ext cx="2038320" cy="288720"/>
          </a:xfrm>
          <a:custGeom>
            <a:avLst/>
            <a:gdLst/>
            <a:ahLst/>
            <a:rect l="l" t="t" r="r" b="b"/>
            <a:pathLst>
              <a:path w="2038350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lnTo>
                  <a:pt x="0" y="72231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lnTo>
                  <a:pt x="18058" y="72231"/>
                </a:lnTo>
                <a:close/>
                <a:moveTo>
                  <a:pt x="45145" y="72231"/>
                </a:moveTo>
                <a:lnTo>
                  <a:pt x="1893888" y="72231"/>
                </a:lnTo>
                <a:lnTo>
                  <a:pt x="1893888" y="0"/>
                </a:lnTo>
                <a:lnTo>
                  <a:pt x="2038350" y="144463"/>
                </a:lnTo>
                <a:lnTo>
                  <a:pt x="1893888" y="288925"/>
                </a:lnTo>
                <a:lnTo>
                  <a:pt x="1893888" y="216694"/>
                </a:lnTo>
                <a:lnTo>
                  <a:pt x="45145" y="216694"/>
                </a:lnTo>
                <a:lnTo>
                  <a:pt x="45145" y="72231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Штриховая стрелка вправо 41"/>
          <p:cNvSpPr/>
          <p:nvPr/>
        </p:nvSpPr>
        <p:spPr>
          <a:xfrm flipH="1">
            <a:off x="2050200" y="2565360"/>
            <a:ext cx="2040120" cy="287280"/>
          </a:xfrm>
          <a:custGeom>
            <a:avLst/>
            <a:gdLst/>
            <a:ahLst/>
            <a:rect l="l" t="t" r="r" b="b"/>
            <a:pathLst>
              <a:path w="2039938" h="287338">
                <a:moveTo>
                  <a:pt x="0" y="71835"/>
                </a:moveTo>
                <a:lnTo>
                  <a:pt x="8979" y="71835"/>
                </a:lnTo>
                <a:lnTo>
                  <a:pt x="8979" y="215504"/>
                </a:lnTo>
                <a:lnTo>
                  <a:pt x="0" y="215504"/>
                </a:lnTo>
                <a:lnTo>
                  <a:pt x="0" y="71835"/>
                </a:lnTo>
                <a:close/>
                <a:moveTo>
                  <a:pt x="17959" y="71835"/>
                </a:moveTo>
                <a:lnTo>
                  <a:pt x="35917" y="71835"/>
                </a:lnTo>
                <a:lnTo>
                  <a:pt x="35917" y="215504"/>
                </a:lnTo>
                <a:lnTo>
                  <a:pt x="17959" y="215504"/>
                </a:lnTo>
                <a:lnTo>
                  <a:pt x="17959" y="71835"/>
                </a:lnTo>
                <a:close/>
                <a:moveTo>
                  <a:pt x="44897" y="71835"/>
                </a:moveTo>
                <a:lnTo>
                  <a:pt x="1896269" y="71835"/>
                </a:lnTo>
                <a:lnTo>
                  <a:pt x="1896269" y="0"/>
                </a:lnTo>
                <a:lnTo>
                  <a:pt x="2039938" y="143669"/>
                </a:lnTo>
                <a:lnTo>
                  <a:pt x="1896269" y="287338"/>
                </a:lnTo>
                <a:lnTo>
                  <a:pt x="1896269" y="215504"/>
                </a:lnTo>
                <a:lnTo>
                  <a:pt x="44897" y="215504"/>
                </a:lnTo>
                <a:lnTo>
                  <a:pt x="44897" y="71835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Штриховая стрелка вправо 42"/>
          <p:cNvSpPr/>
          <p:nvPr/>
        </p:nvSpPr>
        <p:spPr>
          <a:xfrm flipH="1" rot="10800000">
            <a:off x="5159520" y="4078440"/>
            <a:ext cx="2039760" cy="287280"/>
          </a:xfrm>
          <a:custGeom>
            <a:avLst/>
            <a:gdLst/>
            <a:ahLst/>
            <a:rect l="l" t="t" r="r" b="b"/>
            <a:pathLst>
              <a:path w="2039938" h="287337">
                <a:moveTo>
                  <a:pt x="0" y="71834"/>
                </a:moveTo>
                <a:lnTo>
                  <a:pt x="8979" y="71834"/>
                </a:lnTo>
                <a:lnTo>
                  <a:pt x="8979" y="215503"/>
                </a:lnTo>
                <a:lnTo>
                  <a:pt x="0" y="215503"/>
                </a:lnTo>
                <a:lnTo>
                  <a:pt x="0" y="71834"/>
                </a:lnTo>
                <a:close/>
                <a:moveTo>
                  <a:pt x="17959" y="71834"/>
                </a:moveTo>
                <a:lnTo>
                  <a:pt x="35917" y="71834"/>
                </a:lnTo>
                <a:lnTo>
                  <a:pt x="35917" y="215503"/>
                </a:lnTo>
                <a:lnTo>
                  <a:pt x="17959" y="215503"/>
                </a:lnTo>
                <a:lnTo>
                  <a:pt x="17959" y="71834"/>
                </a:lnTo>
                <a:close/>
                <a:moveTo>
                  <a:pt x="44896" y="71834"/>
                </a:moveTo>
                <a:lnTo>
                  <a:pt x="1896270" y="71834"/>
                </a:lnTo>
                <a:lnTo>
                  <a:pt x="1896270" y="0"/>
                </a:lnTo>
                <a:lnTo>
                  <a:pt x="2039938" y="143669"/>
                </a:lnTo>
                <a:lnTo>
                  <a:pt x="1896270" y="287337"/>
                </a:lnTo>
                <a:lnTo>
                  <a:pt x="1896270" y="215503"/>
                </a:lnTo>
                <a:lnTo>
                  <a:pt x="44896" y="215503"/>
                </a:lnTo>
                <a:lnTo>
                  <a:pt x="44896" y="71834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Штриховая стрелка вправо 43"/>
          <p:cNvSpPr/>
          <p:nvPr/>
        </p:nvSpPr>
        <p:spPr>
          <a:xfrm flipH="1">
            <a:off x="5137200" y="6508800"/>
            <a:ext cx="2038320" cy="288720"/>
          </a:xfrm>
          <a:custGeom>
            <a:avLst/>
            <a:gdLst/>
            <a:ahLst/>
            <a:rect l="l" t="t" r="r" b="b"/>
            <a:pathLst>
              <a:path w="2038350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lnTo>
                  <a:pt x="0" y="72231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lnTo>
                  <a:pt x="18058" y="72231"/>
                </a:lnTo>
                <a:close/>
                <a:moveTo>
                  <a:pt x="45145" y="72231"/>
                </a:moveTo>
                <a:lnTo>
                  <a:pt x="1893888" y="72231"/>
                </a:lnTo>
                <a:lnTo>
                  <a:pt x="1893888" y="0"/>
                </a:lnTo>
                <a:lnTo>
                  <a:pt x="2038350" y="144463"/>
                </a:lnTo>
                <a:lnTo>
                  <a:pt x="1893888" y="288925"/>
                </a:lnTo>
                <a:lnTo>
                  <a:pt x="1893888" y="216694"/>
                </a:lnTo>
                <a:lnTo>
                  <a:pt x="45145" y="216694"/>
                </a:lnTo>
                <a:lnTo>
                  <a:pt x="45145" y="72231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Штриховая стрелка вправо 44"/>
          <p:cNvSpPr/>
          <p:nvPr/>
        </p:nvSpPr>
        <p:spPr>
          <a:xfrm flipH="1">
            <a:off x="2026440" y="6508800"/>
            <a:ext cx="2040120" cy="288720"/>
          </a:xfrm>
          <a:custGeom>
            <a:avLst/>
            <a:gdLst/>
            <a:ahLst/>
            <a:rect l="l" t="t" r="r" b="b"/>
            <a:pathLst>
              <a:path w="2039937" h="288925">
                <a:moveTo>
                  <a:pt x="0" y="72231"/>
                </a:moveTo>
                <a:lnTo>
                  <a:pt x="9029" y="72231"/>
                </a:lnTo>
                <a:lnTo>
                  <a:pt x="9029" y="216694"/>
                </a:lnTo>
                <a:lnTo>
                  <a:pt x="0" y="216694"/>
                </a:lnTo>
                <a:lnTo>
                  <a:pt x="0" y="72231"/>
                </a:lnTo>
                <a:close/>
                <a:moveTo>
                  <a:pt x="18058" y="72231"/>
                </a:moveTo>
                <a:lnTo>
                  <a:pt x="36116" y="72231"/>
                </a:lnTo>
                <a:lnTo>
                  <a:pt x="36116" y="216694"/>
                </a:lnTo>
                <a:lnTo>
                  <a:pt x="18058" y="216694"/>
                </a:lnTo>
                <a:lnTo>
                  <a:pt x="18058" y="72231"/>
                </a:lnTo>
                <a:close/>
                <a:moveTo>
                  <a:pt x="45145" y="72231"/>
                </a:moveTo>
                <a:lnTo>
                  <a:pt x="1895475" y="72231"/>
                </a:lnTo>
                <a:lnTo>
                  <a:pt x="1895475" y="0"/>
                </a:lnTo>
                <a:lnTo>
                  <a:pt x="2039937" y="144463"/>
                </a:lnTo>
                <a:lnTo>
                  <a:pt x="1895475" y="288925"/>
                </a:lnTo>
                <a:lnTo>
                  <a:pt x="1895475" y="216694"/>
                </a:lnTo>
                <a:lnTo>
                  <a:pt x="45145" y="216694"/>
                </a:lnTo>
                <a:lnTo>
                  <a:pt x="45145" y="72231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Rectangle 137"/>
          <p:cNvGrpSpPr/>
          <p:nvPr/>
        </p:nvGrpSpPr>
        <p:grpSpPr>
          <a:xfrm>
            <a:off x="311040" y="4059360"/>
            <a:ext cx="2651400" cy="1255680"/>
            <a:chOff x="311040" y="4059360"/>
            <a:chExt cx="2651400" cy="1255680"/>
          </a:xfrm>
        </p:grpSpPr>
        <p:pic>
          <p:nvPicPr>
            <p:cNvPr id="269" name="Rectangle 137" descr=""/>
            <p:cNvPicPr/>
            <p:nvPr/>
          </p:nvPicPr>
          <p:blipFill>
            <a:blip r:embed="rId17"/>
            <a:stretch/>
          </p:blipFill>
          <p:spPr>
            <a:xfrm>
              <a:off x="311040" y="4059360"/>
              <a:ext cx="26514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24000" y="4076640"/>
              <a:ext cx="2622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оектировани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ЗИ О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Штриховая стрелка вправо 28"/>
          <p:cNvSpPr/>
          <p:nvPr/>
        </p:nvSpPr>
        <p:spPr>
          <a:xfrm flipH="1" rot="10800000">
            <a:off x="2026080" y="4005360"/>
            <a:ext cx="2040120" cy="287280"/>
          </a:xfrm>
          <a:custGeom>
            <a:avLst/>
            <a:gdLst/>
            <a:ahLst/>
            <a:rect l="l" t="t" r="r" b="b"/>
            <a:pathLst>
              <a:path w="2039937" h="287337">
                <a:moveTo>
                  <a:pt x="0" y="71834"/>
                </a:moveTo>
                <a:lnTo>
                  <a:pt x="8979" y="71834"/>
                </a:lnTo>
                <a:lnTo>
                  <a:pt x="8979" y="215503"/>
                </a:lnTo>
                <a:lnTo>
                  <a:pt x="0" y="215503"/>
                </a:lnTo>
                <a:lnTo>
                  <a:pt x="0" y="71834"/>
                </a:lnTo>
                <a:close/>
                <a:moveTo>
                  <a:pt x="17959" y="71834"/>
                </a:moveTo>
                <a:lnTo>
                  <a:pt x="35917" y="71834"/>
                </a:lnTo>
                <a:lnTo>
                  <a:pt x="35917" y="215503"/>
                </a:lnTo>
                <a:lnTo>
                  <a:pt x="17959" y="215503"/>
                </a:lnTo>
                <a:lnTo>
                  <a:pt x="17959" y="71834"/>
                </a:lnTo>
                <a:close/>
                <a:moveTo>
                  <a:pt x="44896" y="71834"/>
                </a:moveTo>
                <a:lnTo>
                  <a:pt x="1896269" y="71834"/>
                </a:lnTo>
                <a:lnTo>
                  <a:pt x="1896269" y="0"/>
                </a:lnTo>
                <a:lnTo>
                  <a:pt x="2039937" y="143669"/>
                </a:lnTo>
                <a:lnTo>
                  <a:pt x="1896269" y="287337"/>
                </a:lnTo>
                <a:lnTo>
                  <a:pt x="1896269" y="215503"/>
                </a:lnTo>
                <a:lnTo>
                  <a:pt x="44896" y="215503"/>
                </a:lnTo>
                <a:lnTo>
                  <a:pt x="44896" y="71834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Выгнутая вправо стрелка 40"/>
          <p:cNvSpPr/>
          <p:nvPr/>
        </p:nvSpPr>
        <p:spPr>
          <a:xfrm flipH="1">
            <a:off x="200160" y="2924280"/>
            <a:ext cx="620640" cy="2305080"/>
          </a:xfrm>
          <a:custGeom>
            <a:avLst/>
            <a:gdLst>
              <a:gd name="textAreaLeft" fmla="*/ 83160 w 620640"/>
              <a:gd name="textAreaRight" fmla="*/ 537480 w 620640"/>
              <a:gd name="textAreaTop" fmla="*/ 518040 h 2305080"/>
              <a:gd name="textAreaBottom" fmla="*/ 170964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10" stAng="-5400000" swAng="5400000"/>
                <a:lnTo>
                  <a:pt x="21600" y="11164"/>
                </a:lnTo>
                <a:arcTo wR="21600" hR="9710" stAng="0" swAng="3607627"/>
                <a:lnTo>
                  <a:pt x="5400" y="21292"/>
                </a:lnTo>
                <a:lnTo>
                  <a:pt x="0" y="20146"/>
                </a:lnTo>
                <a:lnTo>
                  <a:pt x="5400" y="18384"/>
                </a:lnTo>
                <a:lnTo>
                  <a:pt x="5400" y="19111"/>
                </a:lnTo>
                <a:arcTo wR="21600" hR="9710" stAng="3607627" swAng="-3491640"/>
                <a:lnTo>
                  <a:pt x="21539" y="10437"/>
                </a:lnTo>
                <a:arcTo wR="21600" hR="9710" stAng="-115987" swAng="-5284013"/>
                <a:close/>
              </a:path>
              <a:path fill="darkenLess" w="21600" h="21600">
                <a:moveTo>
                  <a:pt x="0" y="0"/>
                </a:moveTo>
                <a:arcTo wR="21600" hR="9710" stAng="-5400000" swAng="5400000"/>
                <a:lnTo>
                  <a:pt x="21600" y="11164"/>
                </a:lnTo>
                <a:arcTo wR="21600" hR="9710" stAng="0" swAng="-115987"/>
                <a:lnTo>
                  <a:pt x="21539" y="10437"/>
                </a:lnTo>
                <a:arcTo wR="21600" hR="9710" stAng="-115987" swAng="-5284013"/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ект соответствия профессий в области информационной безопасности по квалификационным уровня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24000" y="765000"/>
          <a:ext cx="8569080" cy="5959800"/>
        </p:xfrm>
        <a:graphic>
          <a:graphicData uri="http://schemas.openxmlformats.org/drawingml/2006/table">
            <a:tbl>
              <a:tblPr/>
              <a:tblGrid>
                <a:gridCol w="625320"/>
                <a:gridCol w="5130720"/>
                <a:gridCol w="563760"/>
                <a:gridCol w="561960"/>
                <a:gridCol w="561960"/>
                <a:gridCol w="561960"/>
                <a:gridCol w="563400"/>
              </a:tblGrid>
              <a:tr h="109764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лифик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информационно-аналитической деятельности в сфере безопас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052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 по противодействию техническим развед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016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 по технической защите информ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052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безопасности ТКС и сетей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Специалист по ЗИ в ТКС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052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безопасности автоматизированных систем (Специалист по ЗИ в АС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196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2530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криптографической защите информ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016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безопасности информационных технолог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3320"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ециалист по противодействию компьютерным атакам на критически важные объекты инфраструк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1240" rIns="21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5B4F-F650-492E-8BF3-0FAB7D59A6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684360" y="2276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арактеристика наименований вид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сновной цели профессиональной деятельности и уровней квалификации профессиональных стандартов в области информационной безопасности (проект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5:28:34Z</dcterms:created>
  <dc:creator>12</dc:creator>
  <dc:description/>
  <dc:language>en-US</dc:language>
  <cp:lastModifiedBy>УМО ИБ</cp:lastModifiedBy>
  <cp:lastPrinted>2015-03-27T06:49:45Z</cp:lastPrinted>
  <dcterms:modified xsi:type="dcterms:W3CDTF">2015-03-27T07:49:39Z</dcterms:modified>
  <cp:revision>406</cp:revision>
  <dc:subject/>
  <dc:title>Подразделения Академи, реализующие организационно-оооооо функции (ОИФ) по основным направлениям деятельности Академии (решение ректората Академии 30.09.2002)</dc:title>
</cp:coreProperties>
</file>